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2.pct" ContentType="image/x-pict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ct" ContentType="image/x-pict"/>
  <Override PartName="/ppt/media/image14.pct" ContentType="image/x-pict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13.pct" ContentType="image/x-pict"/>
  <Override PartName="/ppt/media/image9.png" ContentType="image/png"/>
  <Override PartName="/ppt/media/image10.jpeg" ContentType="image/jpeg"/>
  <Override PartName="/ppt/media/image5.png" ContentType="image/png"/>
  <Override PartName="/ppt/media/image1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828-1061-4B70-AB4E-B9E222AB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7CB-D749-4A23-B106-CB1DFEF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0B2-16F6-4181-A3EA-3EF8FBCC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92A-C893-402D-A701-A5F7319B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952-6251-4F6E-B848-F810AE0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4F1-31D3-4450-9393-8237101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93F-4832-4D3F-B21F-7CABEAF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7F7-AD22-4DBF-B6AE-BF39171C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6CF-C053-4D86-8BDB-B019020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E92-B521-4ED1-A5F2-1AB34CD7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81D-F293-416D-8DD3-3141FF7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032-24A7-4436-AA16-532D08E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C94D3F88-6DFA-479E-953C-3841F65A2338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5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16.pct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7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18.png"/><Relationship Id="rId15" Type="http://schemas.openxmlformats.org/officeDocument/2006/relationships/image" Target="../media/image16.pct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37360" y="672912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1639800"/>
            <a:ext cx="6858000" cy="439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3"/>
                </a:solidFill>
                <a:latin typeface="Comic Sans MS"/>
              </a:rPr>
              <a:t>Le tracce dell’evoluzion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1962720"/>
            <a:ext cx="8229600" cy="3018600"/>
          </a:xfrm>
          <a:prstGeom prst="rect">
            <a:avLst/>
          </a:prstGeom>
          <a:noFill/>
          <a:ln w="9360">
            <a:solidFill>
              <a:srgbClr val="98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SA ACCA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E GUARDIAM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CHE GLI ALTRI MAMMIFER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550692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ilogenesi dei mammif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33520" y="1371600"/>
            <a:ext cx="8839080" cy="5772600"/>
            <a:chOff x="533520" y="1371600"/>
            <a:chExt cx="8839080" cy="5772600"/>
          </a:xfrm>
        </p:grpSpPr>
        <p:sp>
          <p:nvSpPr>
            <p:cNvPr id="417" name=""/>
            <p:cNvSpPr/>
            <p:nvPr/>
          </p:nvSpPr>
          <p:spPr>
            <a:xfrm>
              <a:off x="1066680" y="704844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33520" y="1371600"/>
              <a:ext cx="622080" cy="5676840"/>
              <a:chOff x="533520" y="1371600"/>
              <a:chExt cx="622080" cy="5676840"/>
            </a:xfrm>
          </p:grpSpPr>
          <p:sp>
            <p:nvSpPr>
              <p:cNvPr id="419" name=""/>
              <p:cNvSpPr/>
              <p:nvPr/>
            </p:nvSpPr>
            <p:spPr>
              <a:xfrm>
                <a:off x="1066680" y="1371600"/>
                <a:ext cx="0" cy="567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1066680" y="1676520"/>
                <a:ext cx="88920" cy="4610160"/>
                <a:chOff x="1066680" y="1676520"/>
                <a:chExt cx="88920" cy="46101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066680" y="6210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066680" y="5448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66680" y="47624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066680" y="3975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79640" y="3187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066680" y="2438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66680" y="1676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533520" y="150768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7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3520" y="226008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33520" y="302220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33520" y="379692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33520" y="460980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7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3520" y="528264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3520" y="605736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87520" y="680688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 rot="16226400">
            <a:off x="-1067040" y="412884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mpo (milioni di anni) 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14600" y="1600200"/>
            <a:ext cx="2819520" cy="3886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828440" y="5562720"/>
            <a:ext cx="60948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43440" y="67885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nitorin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562720"/>
            <a:ext cx="685800" cy="1218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6797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chi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1219320" y="579132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2666880" y="5816520"/>
            <a:ext cx="1219320" cy="10288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373560" y="30099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to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otr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181480" y="2057400"/>
            <a:ext cx="533520" cy="3809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3962520" y="5638680"/>
            <a:ext cx="1638360" cy="1204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150080" y="67978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67560" y="3648240"/>
            <a:ext cx="125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ta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sup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3352680"/>
            <a:ext cx="15228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019560" y="5562720"/>
            <a:ext cx="1522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562720"/>
            <a:ext cx="228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2920" y="67978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tto 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1066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08920" y="11678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50-160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1676520"/>
            <a:ext cx="38124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6720" y="177768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0-150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73160" y="146628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2057400"/>
            <a:ext cx="15264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3680" y="299052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2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7440" y="52066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1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3352680"/>
            <a:ext cx="76212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541008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09320" y="67978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5410080"/>
            <a:ext cx="838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33920" y="679788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6324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72400" y="632448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77320" y="6629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27920" y="679788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55308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763120" y="6781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528040" y="6797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839080" y="67816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9067680" y="68580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372600" y="68580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29640" y="69886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331560" y="69886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27680" y="497160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7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21320" y="596844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3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46640" y="621000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~8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03840" y="642564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~6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013680" y="650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~5My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84440" y="26744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u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04920" y="1114920"/>
            <a:ext cx="912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lti geni associati all’X degli euteri sono associati all’X nei marsup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2029320"/>
            <a:ext cx="914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i che mappano distali in Xp11.3 hanno ortologhi su autosomi sia dei marsupiali che dei monotr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533160"/>
            <a:ext cx="839340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dei mammifer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688920" y="3429000"/>
            <a:ext cx="654480" cy="3429000"/>
            <a:chOff x="3688920" y="3429000"/>
            <a:chExt cx="654480" cy="3429000"/>
          </a:xfrm>
        </p:grpSpPr>
        <p:grpSp>
          <p:nvGrpSpPr>
            <p:cNvPr id="494" name=""/>
            <p:cNvGrpSpPr/>
            <p:nvPr/>
          </p:nvGrpSpPr>
          <p:grpSpPr>
            <a:xfrm>
              <a:off x="4053600" y="4489920"/>
              <a:ext cx="285840" cy="383040"/>
              <a:chOff x="4053600" y="4489920"/>
              <a:chExt cx="285840" cy="383040"/>
            </a:xfrm>
          </p:grpSpPr>
          <p:sp>
            <p:nvSpPr>
              <p:cNvPr id="495" name=""/>
              <p:cNvSpPr/>
              <p:nvPr/>
            </p:nvSpPr>
            <p:spPr>
              <a:xfrm rot="5376600">
                <a:off x="4099320" y="4445640"/>
                <a:ext cx="193680" cy="28404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6176600">
                <a:off x="4099680" y="4632840"/>
                <a:ext cx="193680" cy="284040"/>
              </a:xfrm>
              <a:prstGeom prst="flowChartDelay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4044960" y="3429000"/>
              <a:ext cx="298440" cy="1143000"/>
            </a:xfrm>
            <a:prstGeom prst="can">
              <a:avLst>
                <a:gd name="adj" fmla="val 4824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0800000">
              <a:off x="4044600" y="4813200"/>
              <a:ext cx="298440" cy="2044800"/>
            </a:xfrm>
            <a:prstGeom prst="can">
              <a:avLst>
                <a:gd name="adj" fmla="val 2078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44960" y="3549600"/>
              <a:ext cx="298440" cy="12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44960" y="3849840"/>
              <a:ext cx="298440" cy="12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44960" y="4030560"/>
              <a:ext cx="298440" cy="12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44960" y="4300560"/>
              <a:ext cx="29844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44960" y="4432320"/>
              <a:ext cx="298440" cy="79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44960" y="4853160"/>
              <a:ext cx="298440" cy="199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44960" y="5354640"/>
              <a:ext cx="29844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44960" y="5594400"/>
              <a:ext cx="298440" cy="19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44960" y="5775480"/>
              <a:ext cx="298440" cy="120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44960" y="6014880"/>
              <a:ext cx="298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44960" y="6537240"/>
              <a:ext cx="298440" cy="20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44960" y="6265800"/>
              <a:ext cx="298440" cy="171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9640" y="37112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8920" y="5098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902880" y="3124080"/>
            <a:ext cx="628920" cy="3733560"/>
            <a:chOff x="902880" y="3124080"/>
            <a:chExt cx="628920" cy="3733560"/>
          </a:xfrm>
        </p:grpSpPr>
        <p:grpSp>
          <p:nvGrpSpPr>
            <p:cNvPr id="514" name=""/>
            <p:cNvGrpSpPr/>
            <p:nvPr/>
          </p:nvGrpSpPr>
          <p:grpSpPr>
            <a:xfrm>
              <a:off x="1256400" y="4280400"/>
              <a:ext cx="271440" cy="415800"/>
              <a:chOff x="1256400" y="4280400"/>
              <a:chExt cx="271440" cy="415800"/>
            </a:xfrm>
          </p:grpSpPr>
          <p:sp>
            <p:nvSpPr>
              <p:cNvPr id="515" name=""/>
              <p:cNvSpPr/>
              <p:nvPr/>
            </p:nvSpPr>
            <p:spPr>
              <a:xfrm rot="5376600">
                <a:off x="1286280" y="4251600"/>
                <a:ext cx="210600" cy="269640"/>
              </a:xfrm>
              <a:prstGeom prst="flowChartDelay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6176600">
                <a:off x="1287000" y="4455000"/>
                <a:ext cx="210600" cy="269640"/>
              </a:xfrm>
              <a:prstGeom prst="flowChartDelay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1247760" y="3124080"/>
              <a:ext cx="284040" cy="124488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0800000">
              <a:off x="1247400" y="4630320"/>
              <a:ext cx="284040" cy="2227320"/>
            </a:xfrm>
            <a:prstGeom prst="can">
              <a:avLst>
                <a:gd name="adj" fmla="val 2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47760" y="3792600"/>
              <a:ext cx="284040" cy="563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47760" y="4649760"/>
              <a:ext cx="284040" cy="88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47760" y="6546960"/>
              <a:ext cx="284040" cy="234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3600" y="344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02880" y="4960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306160" y="5029200"/>
            <a:ext cx="284400" cy="1814040"/>
            <a:chOff x="2306160" y="5029200"/>
            <a:chExt cx="284400" cy="1814040"/>
          </a:xfrm>
        </p:grpSpPr>
        <p:grpSp>
          <p:nvGrpSpPr>
            <p:cNvPr id="525" name=""/>
            <p:cNvGrpSpPr/>
            <p:nvPr/>
          </p:nvGrpSpPr>
          <p:grpSpPr>
            <a:xfrm>
              <a:off x="2307240" y="5206320"/>
              <a:ext cx="271440" cy="336240"/>
              <a:chOff x="2307240" y="5206320"/>
              <a:chExt cx="271440" cy="336240"/>
            </a:xfrm>
          </p:grpSpPr>
          <p:sp>
            <p:nvSpPr>
              <p:cNvPr id="526" name=""/>
              <p:cNvSpPr/>
              <p:nvPr/>
            </p:nvSpPr>
            <p:spPr>
              <a:xfrm rot="5376600">
                <a:off x="2357640" y="5157000"/>
                <a:ext cx="169920" cy="270000"/>
              </a:xfrm>
              <a:prstGeom prst="flowChartDelay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6176600">
                <a:off x="2358000" y="5321520"/>
                <a:ext cx="169920" cy="270000"/>
              </a:xfrm>
              <a:prstGeom prst="flowChartDelay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10800000">
              <a:off x="2306160" y="5480280"/>
              <a:ext cx="284040" cy="1362960"/>
            </a:xfrm>
            <a:prstGeom prst="can">
              <a:avLst>
                <a:gd name="adj" fmla="val 23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06520" y="5480280"/>
              <a:ext cx="284040" cy="1333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11200" y="5029200"/>
              <a:ext cx="279360" cy="225360"/>
            </a:xfrm>
            <a:prstGeom prst="can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6440" y="69177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onotr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80560" y="321912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osoma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155920" y="3581280"/>
            <a:ext cx="2071800" cy="3632760"/>
            <a:chOff x="5155920" y="3581280"/>
            <a:chExt cx="2071800" cy="3632760"/>
          </a:xfrm>
        </p:grpSpPr>
        <p:sp>
          <p:nvSpPr>
            <p:cNvPr id="534" name=""/>
            <p:cNvSpPr/>
            <p:nvPr/>
          </p:nvSpPr>
          <p:spPr>
            <a:xfrm>
              <a:off x="5638680" y="3581280"/>
              <a:ext cx="298440" cy="11430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38680" y="3809880"/>
              <a:ext cx="292320" cy="381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38680" y="5562720"/>
              <a:ext cx="298440" cy="11430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38680" y="5943600"/>
              <a:ext cx="292320" cy="380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1320" y="4800600"/>
              <a:ext cx="298440" cy="6858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5181480"/>
              <a:ext cx="291960" cy="76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55120" y="379584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75640" y="485640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55120" y="592308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5920" y="687672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rsupi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544160" y="3733920"/>
            <a:ext cx="2045520" cy="3480120"/>
            <a:chOff x="7544160" y="3733920"/>
            <a:chExt cx="2045520" cy="3480120"/>
          </a:xfrm>
        </p:grpSpPr>
        <p:sp>
          <p:nvSpPr>
            <p:cNvPr id="545" name=""/>
            <p:cNvSpPr/>
            <p:nvPr/>
          </p:nvSpPr>
          <p:spPr>
            <a:xfrm>
              <a:off x="8027640" y="3733920"/>
              <a:ext cx="285480" cy="13716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27640" y="3962520"/>
              <a:ext cx="29196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261280" y="391968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07120" y="5334120"/>
              <a:ext cx="298080" cy="137160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7120" y="5943600"/>
              <a:ext cx="291600" cy="380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37600" y="5923080"/>
              <a:ext cx="125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4160" y="6876720"/>
              <a:ext cx="136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onotre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6603840" y="329508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ut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97200" y="69526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sup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10080" y="69526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0880" y="2816640"/>
            <a:ext cx="929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ivergenza dei prototeri e’ precedente alla divergenza metateri-euteri e i monotremi possono considerarsi un outgroup di questi ulti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a loro volta i marsupiali sono l’outgroup dei placent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5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dei mammiferi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80840" y="1672920"/>
            <a:ext cx="80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e si puo’ spiegare questa “stranezza” che sembra ess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contradizione della legge di Ohno sulla conservazione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X nei mammifer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09480" y="1477800"/>
            <a:ext cx="1143000" cy="11192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362320" y="42145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... cos’e’ un outgrou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974120"/>
            <a:ext cx="929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specie outgroup e’ una specie che, a partire da un ance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une, ha seguito un percorso evolutivo indipendente dalla/e specie in esame. Quello che condividono e’ ancestrale, quello le divide e’ deriv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cie specif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dei mammiferi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480" y="1295280"/>
            <a:ext cx="9132480" cy="1119240"/>
            <a:chOff x="609480" y="1295280"/>
            <a:chExt cx="9132480" cy="1119240"/>
          </a:xfrm>
        </p:grpSpPr>
        <p:sp>
          <p:nvSpPr>
            <p:cNvPr id="575" name=""/>
            <p:cNvSpPr/>
            <p:nvPr/>
          </p:nvSpPr>
          <p:spPr>
            <a:xfrm>
              <a:off x="1846800" y="1353960"/>
              <a:ext cx="789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 allora come si concilia la legge di Ohno con i dat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perimental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609480" y="1295280"/>
              <a:ext cx="11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"/>
          <p:cNvGrpSpPr/>
          <p:nvPr/>
        </p:nvGrpSpPr>
        <p:grpSpPr>
          <a:xfrm>
            <a:off x="914400" y="2743200"/>
            <a:ext cx="8458200" cy="2057400"/>
            <a:chOff x="914400" y="2743200"/>
            <a:chExt cx="8458200" cy="2057400"/>
          </a:xfrm>
        </p:grpSpPr>
        <p:sp>
          <p:nvSpPr>
            <p:cNvPr id="578" name=""/>
            <p:cNvSpPr/>
            <p:nvPr/>
          </p:nvSpPr>
          <p:spPr>
            <a:xfrm>
              <a:off x="2590920" y="2853360"/>
              <a:ext cx="6781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ELLE PRIME FASI DELLA LINEA EVOLUTIVA DEGLI EUTERI UN’ ESTESA REGIONE AUTOSOMICA SI E’ TRASLOCATA SUL CROMOSOMA X ANCESTRALE CHE ERA COSTITUITO DALLE SEQUENZE CHE ATTUALMENTE MAPPANO SUL BRACCIO LUNGO DEL CROMOSOMA X. LA LEGGE DI OHNO SI APPLICA A QUESTE REG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914400" y="2743200"/>
              <a:ext cx="152568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"/>
          <p:cNvSpPr/>
          <p:nvPr/>
        </p:nvSpPr>
        <p:spPr>
          <a:xfrm>
            <a:off x="630360" y="6261480"/>
            <a:ext cx="87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ETATERI LA TRASLOCAZIONE NON C’E’ STATA. IL L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OMOSOMA X PUO’ ESSERE CONSIDERATO LA FORMA ANCES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51343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PROTOTERI SEGMENTI AUTOSOMICI DIVERSI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LOCATI SULLA X ANCESTR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9190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L’evoluzione dei cromosomi X e Y:addition and attr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429000" y="1066680"/>
            <a:ext cx="762120" cy="838080"/>
            <a:chOff x="3429000" y="1066680"/>
            <a:chExt cx="762120" cy="838080"/>
          </a:xfrm>
        </p:grpSpPr>
        <p:sp>
          <p:nvSpPr>
            <p:cNvPr id="590" name=""/>
            <p:cNvSpPr/>
            <p:nvPr/>
          </p:nvSpPr>
          <p:spPr>
            <a:xfrm>
              <a:off x="3429000" y="1066680"/>
              <a:ext cx="228600" cy="838080"/>
            </a:xfrm>
            <a:prstGeom prst="can">
              <a:avLst>
                <a:gd name="adj" fmla="val 1287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62520" y="1066680"/>
              <a:ext cx="228600" cy="83808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7600" y="121896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57600" y="13712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15238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57600" y="167616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18284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327560" y="1088280"/>
            <a:ext cx="359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tenato dei mammife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osomi sessuali indifferenzi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2093400"/>
            <a:ext cx="359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lezione + Eterocromatizz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352680" y="1981080"/>
            <a:ext cx="762120" cy="1523880"/>
            <a:chOff x="3352680" y="1981080"/>
            <a:chExt cx="762120" cy="1523880"/>
          </a:xfrm>
        </p:grpSpPr>
        <p:sp>
          <p:nvSpPr>
            <p:cNvPr id="600" name=""/>
            <p:cNvSpPr/>
            <p:nvPr/>
          </p:nvSpPr>
          <p:spPr>
            <a:xfrm rot="5400000">
              <a:off x="3542760" y="2171520"/>
              <a:ext cx="609840" cy="22860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3352680" y="2666880"/>
              <a:ext cx="762120" cy="838080"/>
              <a:chOff x="3352680" y="2666880"/>
              <a:chExt cx="762120" cy="838080"/>
            </a:xfrm>
          </p:grpSpPr>
          <p:sp>
            <p:nvSpPr>
              <p:cNvPr id="602" name=""/>
              <p:cNvSpPr/>
              <p:nvPr/>
            </p:nvSpPr>
            <p:spPr>
              <a:xfrm>
                <a:off x="3352680" y="2666880"/>
                <a:ext cx="228600" cy="838080"/>
              </a:xfrm>
              <a:prstGeom prst="can">
                <a:avLst>
                  <a:gd name="adj" fmla="val 1287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86200" y="2666880"/>
                <a:ext cx="228600" cy="838080"/>
              </a:xfrm>
              <a:prstGeom prst="can">
                <a:avLst>
                  <a:gd name="adj" fmla="val 113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581280" y="31240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81280" y="32763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81280" y="342864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86200" y="2666880"/>
                <a:ext cx="228600" cy="380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380880" y="2362320"/>
            <a:ext cx="22860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2971800"/>
            <a:ext cx="228600" cy="228600"/>
          </a:xfrm>
          <a:prstGeom prst="can">
            <a:avLst>
              <a:gd name="adj" fmla="val 33333"/>
            </a:avLst>
          </a:prstGeom>
          <a:gradFill rotWithShape="0">
            <a:gsLst>
              <a:gs pos="0">
                <a:srgbClr val="000000"/>
              </a:gs>
              <a:gs pos="50000">
                <a:srgbClr val="b02fd9"/>
              </a:gs>
              <a:gs pos="100000">
                <a:srgbClr val="0000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666880"/>
            <a:ext cx="22860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362320"/>
            <a:ext cx="1503720" cy="838080"/>
            <a:chOff x="685800" y="2362320"/>
            <a:chExt cx="1503720" cy="838080"/>
          </a:xfrm>
        </p:grpSpPr>
        <p:sp>
          <p:nvSpPr>
            <p:cNvPr id="612" name=""/>
            <p:cNvSpPr/>
            <p:nvPr/>
          </p:nvSpPr>
          <p:spPr>
            <a:xfrm>
              <a:off x="685800" y="2362320"/>
              <a:ext cx="76320" cy="83808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6600" y="2476440"/>
              <a:ext cx="149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eg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utosom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324440" y="3467160"/>
            <a:ext cx="2079000" cy="1676520"/>
            <a:chOff x="1324440" y="3467160"/>
            <a:chExt cx="2079000" cy="1676520"/>
          </a:xfrm>
        </p:grpSpPr>
        <p:sp>
          <p:nvSpPr>
            <p:cNvPr id="615" name=""/>
            <p:cNvSpPr/>
            <p:nvPr/>
          </p:nvSpPr>
          <p:spPr>
            <a:xfrm flipH="1">
              <a:off x="1752480" y="3467160"/>
              <a:ext cx="16509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24440" y="4207320"/>
              <a:ext cx="118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T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733920" y="3310200"/>
            <a:ext cx="2249640" cy="1185480"/>
            <a:chOff x="3733920" y="3310200"/>
            <a:chExt cx="2249640" cy="1185480"/>
          </a:xfrm>
        </p:grpSpPr>
        <p:grpSp>
          <p:nvGrpSpPr>
            <p:cNvPr id="618" name=""/>
            <p:cNvGrpSpPr/>
            <p:nvPr/>
          </p:nvGrpSpPr>
          <p:grpSpPr>
            <a:xfrm>
              <a:off x="4495680" y="3657600"/>
              <a:ext cx="749520" cy="838080"/>
              <a:chOff x="4495680" y="3657600"/>
              <a:chExt cx="749520" cy="838080"/>
            </a:xfrm>
          </p:grpSpPr>
          <p:sp>
            <p:nvSpPr>
              <p:cNvPr id="619" name=""/>
              <p:cNvSpPr/>
              <p:nvPr/>
            </p:nvSpPr>
            <p:spPr>
              <a:xfrm>
                <a:off x="4495680" y="3657600"/>
                <a:ext cx="228600" cy="838080"/>
              </a:xfrm>
              <a:prstGeom prst="can">
                <a:avLst>
                  <a:gd name="adj" fmla="val 1287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29200" y="3962520"/>
                <a:ext cx="216000" cy="507960"/>
              </a:xfrm>
              <a:prstGeom prst="can">
                <a:avLst>
                  <a:gd name="adj" fmla="val 113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24280" y="42670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24280" y="4419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29200" y="3936960"/>
                <a:ext cx="2160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733920" y="35812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8840" y="3310200"/>
              <a:ext cx="122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NCES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T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394080" y="4495680"/>
            <a:ext cx="1114200" cy="1143000"/>
            <a:chOff x="3394080" y="4495680"/>
            <a:chExt cx="1114200" cy="1143000"/>
          </a:xfrm>
        </p:grpSpPr>
        <p:sp>
          <p:nvSpPr>
            <p:cNvPr id="627" name=""/>
            <p:cNvSpPr/>
            <p:nvPr/>
          </p:nvSpPr>
          <p:spPr>
            <a:xfrm flipH="1">
              <a:off x="4343040" y="4495680"/>
              <a:ext cx="16524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4080" y="489312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ETATE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14480" y="5181480"/>
            <a:ext cx="2895480" cy="1837800"/>
            <a:chOff x="114480" y="5181480"/>
            <a:chExt cx="2895480" cy="1837800"/>
          </a:xfrm>
        </p:grpSpPr>
        <p:sp>
          <p:nvSpPr>
            <p:cNvPr id="630" name=""/>
            <p:cNvSpPr/>
            <p:nvPr/>
          </p:nvSpPr>
          <p:spPr>
            <a:xfrm>
              <a:off x="1295280" y="5943600"/>
              <a:ext cx="22860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5943600"/>
              <a:ext cx="22860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95280" y="5181480"/>
              <a:ext cx="228600" cy="838440"/>
            </a:xfrm>
            <a:prstGeom prst="can">
              <a:avLst>
                <a:gd name="adj" fmla="val 1287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5562720"/>
              <a:ext cx="228600" cy="457200"/>
            </a:xfrm>
            <a:prstGeom prst="can">
              <a:avLst>
                <a:gd name="adj" fmla="val 11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23880" y="5638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3880" y="579132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23880" y="594360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5389560"/>
              <a:ext cx="22860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113b2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60958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4480" y="6293160"/>
              <a:ext cx="28954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onotre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zialmente differenzi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egione autosomica traslocata su X 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429000" y="5334120"/>
            <a:ext cx="2895480" cy="1520640"/>
            <a:chOff x="3429000" y="5334120"/>
            <a:chExt cx="2895480" cy="1520640"/>
          </a:xfrm>
        </p:grpSpPr>
        <p:sp>
          <p:nvSpPr>
            <p:cNvPr id="641" name=""/>
            <p:cNvSpPr/>
            <p:nvPr/>
          </p:nvSpPr>
          <p:spPr>
            <a:xfrm>
              <a:off x="3898800" y="5334120"/>
              <a:ext cx="228600" cy="838080"/>
            </a:xfrm>
            <a:prstGeom prst="can">
              <a:avLst>
                <a:gd name="adj" fmla="val 1287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80040" y="5943600"/>
              <a:ext cx="21564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113b2"/>
                </a:gs>
                <a:gs pos="100000">
                  <a:srgbClr val="ffffff"/>
                </a:gs>
              </a:gsLst>
              <a:lin ang="10800000"/>
            </a:gra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29000" y="6286680"/>
              <a:ext cx="289548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arsupi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otalmente differenzi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477120" y="5092560"/>
            <a:ext cx="3322440" cy="2100960"/>
            <a:chOff x="6477120" y="5092560"/>
            <a:chExt cx="3322440" cy="2100960"/>
          </a:xfrm>
        </p:grpSpPr>
        <p:grpSp>
          <p:nvGrpSpPr>
            <p:cNvPr id="645" name=""/>
            <p:cNvGrpSpPr/>
            <p:nvPr/>
          </p:nvGrpSpPr>
          <p:grpSpPr>
            <a:xfrm>
              <a:off x="7391520" y="5092560"/>
              <a:ext cx="1904760" cy="1219320"/>
              <a:chOff x="7391520" y="5092560"/>
              <a:chExt cx="1904760" cy="121932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8542440" y="5092560"/>
                <a:ext cx="753840" cy="1219320"/>
                <a:chOff x="8542440" y="5092560"/>
                <a:chExt cx="753840" cy="12193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8542440" y="5092560"/>
                  <a:ext cx="228600" cy="838440"/>
                </a:xfrm>
                <a:prstGeom prst="can">
                  <a:avLst>
                    <a:gd name="adj" fmla="val 1287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"/>
                <p:cNvGrpSpPr/>
                <p:nvPr/>
              </p:nvGrpSpPr>
              <p:grpSpPr>
                <a:xfrm>
                  <a:off x="8542440" y="5880240"/>
                  <a:ext cx="228600" cy="431640"/>
                  <a:chOff x="8542440" y="5880240"/>
                  <a:chExt cx="228600" cy="4316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8542440" y="6083280"/>
                    <a:ext cx="228600" cy="228600"/>
                  </a:xfrm>
                  <a:prstGeom prst="can">
                    <a:avLst>
                      <a:gd name="adj" fmla="val 16666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b02fd9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8542440" y="5880240"/>
                    <a:ext cx="228600" cy="228600"/>
                  </a:xfrm>
                  <a:prstGeom prst="can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0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8802720" y="6254640"/>
                  <a:ext cx="304920" cy="0"/>
                </a:xfrm>
                <a:prstGeom prst="line">
                  <a:avLst/>
                </a:prstGeom>
                <a:ln cap="rnd" w="57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9075600" y="5987880"/>
                  <a:ext cx="220680" cy="317520"/>
                  <a:chOff x="9075600" y="5987880"/>
                  <a:chExt cx="220680" cy="3175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9075600" y="6178320"/>
                    <a:ext cx="220680" cy="127080"/>
                  </a:xfrm>
                  <a:prstGeom prst="can">
                    <a:avLst>
                      <a:gd name="adj" fmla="val 16666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b02fd9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9075600" y="5987880"/>
                    <a:ext cx="216000" cy="2286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0113b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7391520" y="5638680"/>
                <a:ext cx="11430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6477120" y="6151320"/>
              <a:ext cx="33224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ute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zialmente differenzi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egioni autosomic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raslocate su X e Y. L’ Y degenera eterocromatizzando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232240" y="4105440"/>
            <a:ext cx="4183560" cy="1546200"/>
            <a:chOff x="5232240" y="4105440"/>
            <a:chExt cx="4183560" cy="1546200"/>
          </a:xfrm>
        </p:grpSpPr>
        <p:grpSp>
          <p:nvGrpSpPr>
            <p:cNvPr id="658" name=""/>
            <p:cNvGrpSpPr/>
            <p:nvPr/>
          </p:nvGrpSpPr>
          <p:grpSpPr>
            <a:xfrm>
              <a:off x="6629400" y="4419720"/>
              <a:ext cx="754200" cy="1231920"/>
              <a:chOff x="6629400" y="4419720"/>
              <a:chExt cx="754200" cy="1231920"/>
            </a:xfrm>
          </p:grpSpPr>
          <p:sp>
            <p:nvSpPr>
              <p:cNvPr id="659" name=""/>
              <p:cNvSpPr/>
              <p:nvPr/>
            </p:nvSpPr>
            <p:spPr>
              <a:xfrm>
                <a:off x="7162920" y="4724640"/>
                <a:ext cx="215640" cy="507960"/>
              </a:xfrm>
              <a:prstGeom prst="can">
                <a:avLst>
                  <a:gd name="adj" fmla="val 113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58000" y="502956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858000" y="518184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162920" y="4699080"/>
                <a:ext cx="21564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629400" y="4419720"/>
                <a:ext cx="228600" cy="838440"/>
              </a:xfrm>
              <a:prstGeom prst="can">
                <a:avLst>
                  <a:gd name="adj" fmla="val 1287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108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6629400" y="5207400"/>
                <a:ext cx="228600" cy="431640"/>
                <a:chOff x="6629400" y="5207400"/>
                <a:chExt cx="228600" cy="4316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629400" y="5410440"/>
                  <a:ext cx="228600" cy="228600"/>
                </a:xfrm>
                <a:prstGeom prst="can">
                  <a:avLst>
                    <a:gd name="adj" fmla="val 16666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02fd9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629400" y="5207400"/>
                  <a:ext cx="228600" cy="228600"/>
                </a:xfrm>
                <a:prstGeom prst="can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62920" y="5220000"/>
                <a:ext cx="220680" cy="431640"/>
                <a:chOff x="7162920" y="5220000"/>
                <a:chExt cx="220680" cy="4316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162920" y="5423040"/>
                  <a:ext cx="220680" cy="228600"/>
                </a:xfrm>
                <a:prstGeom prst="can">
                  <a:avLst>
                    <a:gd name="adj" fmla="val 16666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02fd9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162920" y="5220000"/>
                  <a:ext cx="220680" cy="228600"/>
                </a:xfrm>
                <a:prstGeom prst="can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108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6858000" y="53341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870600" y="5537520"/>
                <a:ext cx="304920" cy="0"/>
              </a:xfrm>
              <a:prstGeom prst="line">
                <a:avLst/>
              </a:prstGeom>
              <a:ln cap="rnd" w="57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6031800" y="4105440"/>
              <a:ext cx="338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raslocazione su X e Y di reg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utosom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5232240" y="4457880"/>
              <a:ext cx="1219320" cy="838080"/>
              <a:chOff x="5232240" y="4457880"/>
              <a:chExt cx="1219320" cy="838080"/>
            </a:xfrm>
          </p:grpSpPr>
          <p:sp>
            <p:nvSpPr>
              <p:cNvPr id="674" name=""/>
              <p:cNvSpPr/>
              <p:nvPr/>
            </p:nvSpPr>
            <p:spPr>
              <a:xfrm>
                <a:off x="5232240" y="4457880"/>
                <a:ext cx="121932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44640" y="4901760"/>
                <a:ext cx="62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ER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520" y="3746160"/>
            <a:ext cx="9021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OTESI: GENI ANTAGONISTI NEI DUE SES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i benefici  per il sesso eterogametico, dannosi nell’altro: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combinazione verrebbe soppressa nella regione di questi locus. Se uno di questi locus e’ quello della determinazione del sesso l’eteromorf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l’assenza di ricombinazione si fissano nella 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5951160"/>
            <a:ext cx="92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base alle dinamiche popolazionistiche cromosoma che non ricombina degenera (evidenze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 e non scompare solo se vi sono locus necessari alla sopravvivenza della spe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0880" y="533520"/>
            <a:ext cx="839340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I cromosomi sessuali sono eteromorf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33520" y="2830680"/>
            <a:ext cx="8915400" cy="522000"/>
            <a:chOff x="533520" y="2830680"/>
            <a:chExt cx="8915400" cy="522000"/>
          </a:xfrm>
        </p:grpSpPr>
        <p:sp>
          <p:nvSpPr>
            <p:cNvPr id="686" name=""/>
            <p:cNvSpPr/>
            <p:nvPr/>
          </p:nvSpPr>
          <p:spPr>
            <a:xfrm>
              <a:off x="1143000" y="2876760"/>
              <a:ext cx="83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CHE’ SONO ETEROMORFICI E LA Y E’ ANDATA DEGENERAN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533520" y="2830680"/>
              <a:ext cx="53316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8" name=""/>
          <p:cNvGrpSpPr/>
          <p:nvPr/>
        </p:nvGrpSpPr>
        <p:grpSpPr>
          <a:xfrm>
            <a:off x="228600" y="1096920"/>
            <a:ext cx="9372600" cy="1249560"/>
            <a:chOff x="228600" y="1096920"/>
            <a:chExt cx="9372600" cy="1249560"/>
          </a:xfrm>
        </p:grpSpPr>
        <p:sp>
          <p:nvSpPr>
            <p:cNvPr id="689" name=""/>
            <p:cNvSpPr/>
            <p:nvPr/>
          </p:nvSpPr>
          <p:spPr>
            <a:xfrm>
              <a:off x="1066680" y="115524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L’eterogamia di uno dei due sessi e’ presente in vari animali an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ilogeneticamente distanti. In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rosophila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n vi e’ ricombin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 il sesso non e’ determinato dal cromosoma Y. Sembra che ci s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na pressione selettiva che favorisce questa situ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228600" y="1096920"/>
              <a:ext cx="8730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9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ifferenziazione dei cromosomi sessu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219320" y="2362320"/>
            <a:ext cx="2514600" cy="1186560"/>
            <a:chOff x="1219320" y="2362320"/>
            <a:chExt cx="2514600" cy="1186560"/>
          </a:xfrm>
        </p:grpSpPr>
        <p:sp>
          <p:nvSpPr>
            <p:cNvPr id="699" name=""/>
            <p:cNvSpPr/>
            <p:nvPr/>
          </p:nvSpPr>
          <p:spPr>
            <a:xfrm>
              <a:off x="1219320" y="272484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cquisizione allele c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termina il s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49520" y="2362320"/>
              <a:ext cx="990360" cy="304920"/>
            </a:xfrm>
            <a:custGeom>
              <a:avLst/>
              <a:gdLst>
                <a:gd name="textAreaLeft" fmla="*/ 154800 w 990360"/>
                <a:gd name="textAreaRight" fmla="*/ 866880 w 9903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287640" y="1545120"/>
            <a:ext cx="1898280" cy="2349720"/>
            <a:chOff x="287640" y="1545120"/>
            <a:chExt cx="1898280" cy="2349720"/>
          </a:xfrm>
        </p:grpSpPr>
        <p:sp>
          <p:nvSpPr>
            <p:cNvPr id="702" name=""/>
            <p:cNvSpPr/>
            <p:nvPr/>
          </p:nvSpPr>
          <p:spPr>
            <a:xfrm>
              <a:off x="287640" y="1545120"/>
              <a:ext cx="189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RMAFRODI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56840" y="2057400"/>
              <a:ext cx="990000" cy="1837440"/>
              <a:chOff x="456840" y="2057400"/>
              <a:chExt cx="990000" cy="18374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98400" y="2133720"/>
                <a:ext cx="380880" cy="304560"/>
                <a:chOff x="698400" y="2133720"/>
                <a:chExt cx="380880" cy="3045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698400" y="21337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98400" y="22478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98400" y="2324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98400" y="2438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685800" y="27050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5800" y="28004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5800" y="28954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85800" y="29718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73200" y="31431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73200" y="32385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3200" y="3314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3200" y="3429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456840" y="2057400"/>
                <a:ext cx="236880" cy="1401120"/>
                <a:chOff x="456840" y="2057400"/>
                <a:chExt cx="236880" cy="14011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464760" y="2510640"/>
                  <a:ext cx="224640" cy="153360"/>
                  <a:chOff x="464760" y="2510640"/>
                  <a:chExt cx="224640" cy="1533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rot="5376600">
                    <a:off x="538200" y="24379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rot="16176600">
                    <a:off x="538200" y="25124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"/>
                <p:cNvSpPr/>
                <p:nvPr/>
              </p:nvSpPr>
              <p:spPr>
                <a:xfrm>
                  <a:off x="458640" y="20574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10800000">
                  <a:off x="456840" y="26395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58400" y="2057400"/>
                <a:ext cx="236880" cy="1401120"/>
                <a:chOff x="1058400" y="2057400"/>
                <a:chExt cx="236880" cy="140112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1066320" y="2510640"/>
                  <a:ext cx="224640" cy="153360"/>
                  <a:chOff x="1066320" y="2510640"/>
                  <a:chExt cx="224640" cy="15336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 rot="5376600">
                    <a:off x="1139760" y="24379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16176600">
                    <a:off x="1139760" y="25124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7" name=""/>
                <p:cNvSpPr/>
                <p:nvPr/>
              </p:nvSpPr>
              <p:spPr>
                <a:xfrm>
                  <a:off x="1060200" y="20574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0800000">
                  <a:off x="1058400" y="26395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473760" y="3526560"/>
                <a:ext cx="97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    A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01480" y="2895480"/>
                <a:ext cx="15264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11320" y="2895480"/>
                <a:ext cx="15228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85800" y="30481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3" name=""/>
          <p:cNvGrpSpPr/>
          <p:nvPr/>
        </p:nvGrpSpPr>
        <p:grpSpPr>
          <a:xfrm>
            <a:off x="4876920" y="2362320"/>
            <a:ext cx="2514600" cy="1186560"/>
            <a:chOff x="4876920" y="2362320"/>
            <a:chExt cx="2514600" cy="1186560"/>
          </a:xfrm>
        </p:grpSpPr>
        <p:sp>
          <p:nvSpPr>
            <p:cNvPr id="734" name=""/>
            <p:cNvSpPr/>
            <p:nvPr/>
          </p:nvSpPr>
          <p:spPr>
            <a:xfrm>
              <a:off x="4876920" y="272484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olu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i antagonisti e assenza di scamb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07120" y="2362320"/>
              <a:ext cx="990360" cy="304920"/>
            </a:xfrm>
            <a:custGeom>
              <a:avLst/>
              <a:gdLst>
                <a:gd name="textAreaLeft" fmla="*/ 154800 w 990360"/>
                <a:gd name="textAreaRight" fmla="*/ 866880 w 9903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8001000" y="2535120"/>
            <a:ext cx="1706400" cy="946440"/>
            <a:chOff x="8001000" y="2535120"/>
            <a:chExt cx="1706400" cy="946440"/>
          </a:xfrm>
        </p:grpSpPr>
        <p:sp>
          <p:nvSpPr>
            <p:cNvPr id="737" name=""/>
            <p:cNvSpPr/>
            <p:nvPr/>
          </p:nvSpPr>
          <p:spPr>
            <a:xfrm>
              <a:off x="8153280" y="2535120"/>
              <a:ext cx="1554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 questa zo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’ soppressa la ricombin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01000" y="2743200"/>
              <a:ext cx="76320" cy="4572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466760" y="3886200"/>
            <a:ext cx="2152080" cy="1067040"/>
            <a:chOff x="7466760" y="3886200"/>
            <a:chExt cx="2152080" cy="1067040"/>
          </a:xfrm>
        </p:grpSpPr>
        <p:sp>
          <p:nvSpPr>
            <p:cNvPr id="740" name=""/>
            <p:cNvSpPr/>
            <p:nvPr/>
          </p:nvSpPr>
          <p:spPr>
            <a:xfrm>
              <a:off x="7772400" y="4224600"/>
              <a:ext cx="184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IVERGENZA DE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397000">
              <a:off x="7086240" y="4267080"/>
              <a:ext cx="1066680" cy="30492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173040" y="1160280"/>
            <a:ext cx="2780640" cy="2734560"/>
            <a:chOff x="3173040" y="1160280"/>
            <a:chExt cx="2780640" cy="2734560"/>
          </a:xfrm>
        </p:grpSpPr>
        <p:grpSp>
          <p:nvGrpSpPr>
            <p:cNvPr id="743" name=""/>
            <p:cNvGrpSpPr/>
            <p:nvPr/>
          </p:nvGrpSpPr>
          <p:grpSpPr>
            <a:xfrm>
              <a:off x="3173040" y="1160280"/>
              <a:ext cx="2780640" cy="2734560"/>
              <a:chOff x="3173040" y="1160280"/>
              <a:chExt cx="2780640" cy="2734560"/>
            </a:xfrm>
          </p:grpSpPr>
          <p:sp>
            <p:nvSpPr>
              <p:cNvPr id="744" name=""/>
              <p:cNvSpPr/>
              <p:nvPr/>
            </p:nvSpPr>
            <p:spPr>
              <a:xfrm>
                <a:off x="3173040" y="1160280"/>
                <a:ext cx="2780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VILUPPO DEL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TERMINAZIONE GENETICA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L SES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4022280" y="2057400"/>
                <a:ext cx="1256040" cy="1837440"/>
                <a:chOff x="4022280" y="2057400"/>
                <a:chExt cx="1256040" cy="1837440"/>
              </a:xfrm>
            </p:grpSpPr>
            <p:grpSp>
              <p:nvGrpSpPr>
                <p:cNvPr id="746" name=""/>
                <p:cNvGrpSpPr/>
                <p:nvPr/>
              </p:nvGrpSpPr>
              <p:grpSpPr>
                <a:xfrm>
                  <a:off x="4264200" y="2133720"/>
                  <a:ext cx="380880" cy="304560"/>
                  <a:chOff x="4264200" y="2133720"/>
                  <a:chExt cx="380880" cy="30456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4264200" y="213372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264200" y="224784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264200" y="232416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264200" y="24382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1" name=""/>
                <p:cNvSpPr/>
                <p:nvPr/>
              </p:nvSpPr>
              <p:spPr>
                <a:xfrm>
                  <a:off x="4251240" y="270504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251240" y="280656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251240" y="289548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238640" y="31370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238640" y="3238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238640" y="33148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38640" y="3429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4022280" y="2057400"/>
                  <a:ext cx="236880" cy="1401120"/>
                  <a:chOff x="4022280" y="2057400"/>
                  <a:chExt cx="236880" cy="1401120"/>
                </a:xfrm>
              </p:grpSpPr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4030200" y="2510640"/>
                    <a:ext cx="224640" cy="153360"/>
                    <a:chOff x="4030200" y="2510640"/>
                    <a:chExt cx="224640" cy="153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5376600">
                      <a:off x="4103640" y="243792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16176600">
                      <a:off x="4103640" y="251244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2" name=""/>
                  <p:cNvSpPr/>
                  <p:nvPr/>
                </p:nvSpPr>
                <p:spPr>
                  <a:xfrm>
                    <a:off x="4024080" y="2057400"/>
                    <a:ext cx="235080" cy="458640"/>
                  </a:xfrm>
                  <a:prstGeom prst="can">
                    <a:avLst>
                      <a:gd name="adj" fmla="val 9342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10800000">
                    <a:off x="4022280" y="2639520"/>
                    <a:ext cx="235080" cy="819000"/>
                  </a:xfrm>
                  <a:prstGeom prst="can">
                    <a:avLst>
                      <a:gd name="adj" fmla="val 207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4624200" y="2057400"/>
                  <a:ext cx="236880" cy="1401120"/>
                  <a:chOff x="4624200" y="2057400"/>
                  <a:chExt cx="236880" cy="1401120"/>
                </a:xfrm>
              </p:grpSpPr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632120" y="2510640"/>
                    <a:ext cx="224640" cy="153360"/>
                    <a:chOff x="4632120" y="2510640"/>
                    <a:chExt cx="224640" cy="15336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5376600">
                      <a:off x="4705560" y="243792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6176600">
                      <a:off x="4705560" y="2512440"/>
                      <a:ext cx="77400" cy="223920"/>
                    </a:xfrm>
                    <a:prstGeom prst="flowChartDelay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8" name=""/>
                  <p:cNvSpPr/>
                  <p:nvPr/>
                </p:nvSpPr>
                <p:spPr>
                  <a:xfrm>
                    <a:off x="4626000" y="2057400"/>
                    <a:ext cx="235080" cy="458640"/>
                  </a:xfrm>
                  <a:prstGeom prst="can">
                    <a:avLst>
                      <a:gd name="adj" fmla="val 9342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0800000">
                    <a:off x="4624200" y="2639520"/>
                    <a:ext cx="235080" cy="819000"/>
                  </a:xfrm>
                  <a:prstGeom prst="can">
                    <a:avLst>
                      <a:gd name="adj" fmla="val 2078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e2c02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0" name=""/>
                <p:cNvSpPr/>
                <p:nvPr/>
              </p:nvSpPr>
              <p:spPr>
                <a:xfrm>
                  <a:off x="4073760" y="3526560"/>
                  <a:ext cx="120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    A</a:t>
                  </a:r>
                  <a:r>
                    <a:rPr b="1" lang="en-US" sz="1600" spc="-1" strike="noStrike" u="sng" baseline="30000">
                      <a:solidFill>
                        <a:srgbClr val="000000"/>
                      </a:solidFill>
                      <a:uFillTx/>
                      <a:latin typeface="Comic Sans MS"/>
                    </a:rPr>
                    <a:t>SD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64040" y="2895480"/>
                  <a:ext cx="152280" cy="152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660920" y="2895480"/>
                  <a:ext cx="152280" cy="15264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4089240" y="2787480"/>
              <a:ext cx="685800" cy="393840"/>
              <a:chOff x="4089240" y="2787480"/>
              <a:chExt cx="685800" cy="39384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4089240" y="2787480"/>
                <a:ext cx="76320" cy="393840"/>
                <a:chOff x="4089240" y="2787480"/>
                <a:chExt cx="76320" cy="3938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089240" y="2787480"/>
                  <a:ext cx="7632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089240" y="3105000"/>
                  <a:ext cx="7632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699080" y="2787480"/>
                <a:ext cx="75960" cy="393840"/>
                <a:chOff x="4699080" y="2787480"/>
                <a:chExt cx="75960" cy="39384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4699080" y="2787480"/>
                  <a:ext cx="7596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699080" y="3105000"/>
                  <a:ext cx="75960" cy="7632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0" name=""/>
          <p:cNvGrpSpPr/>
          <p:nvPr/>
        </p:nvGrpSpPr>
        <p:grpSpPr>
          <a:xfrm>
            <a:off x="6786360" y="1181160"/>
            <a:ext cx="1883160" cy="2801520"/>
            <a:chOff x="6786360" y="1181160"/>
            <a:chExt cx="1883160" cy="2801520"/>
          </a:xfrm>
        </p:grpSpPr>
        <p:sp>
          <p:nvSpPr>
            <p:cNvPr id="781" name=""/>
            <p:cNvSpPr/>
            <p:nvPr/>
          </p:nvSpPr>
          <p:spPr>
            <a:xfrm>
              <a:off x="6786360" y="1181160"/>
              <a:ext cx="188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ROTO-SESSUA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31080" y="3462480"/>
              <a:ext cx="79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16880" y="3462480"/>
              <a:ext cx="79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7086240" y="2057400"/>
              <a:ext cx="838440" cy="1401840"/>
              <a:chOff x="7086240" y="2057400"/>
              <a:chExt cx="838440" cy="1401840"/>
            </a:xfrm>
          </p:grpSpPr>
          <p:grpSp>
            <p:nvGrpSpPr>
              <p:cNvPr id="785" name=""/>
              <p:cNvGrpSpPr/>
              <p:nvPr/>
            </p:nvGrpSpPr>
            <p:grpSpPr>
              <a:xfrm>
                <a:off x="7327800" y="2133720"/>
                <a:ext cx="380880" cy="304560"/>
                <a:chOff x="7327800" y="2133720"/>
                <a:chExt cx="380880" cy="3045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7327800" y="21337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327800" y="22478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327800" y="232416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327800" y="2438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7315200" y="2666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02600" y="33148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02600" y="3429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7086240" y="2057400"/>
                <a:ext cx="236880" cy="1401120"/>
                <a:chOff x="7086240" y="2057400"/>
                <a:chExt cx="236880" cy="140112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7094160" y="2510640"/>
                  <a:ext cx="224640" cy="153360"/>
                  <a:chOff x="7094160" y="2510640"/>
                  <a:chExt cx="224640" cy="15336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rot="5376600">
                    <a:off x="7167600" y="24379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6176600">
                    <a:off x="7167600" y="25124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7" name=""/>
                <p:cNvSpPr/>
                <p:nvPr/>
              </p:nvSpPr>
              <p:spPr>
                <a:xfrm>
                  <a:off x="7088040" y="20574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10800000">
                  <a:off x="7086240" y="26395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7695720" y="2510640"/>
                <a:ext cx="224640" cy="154080"/>
                <a:chOff x="7695720" y="2510640"/>
                <a:chExt cx="224640" cy="154080"/>
              </a:xfrm>
            </p:grpSpPr>
            <p:sp>
              <p:nvSpPr>
                <p:cNvPr id="800" name=""/>
                <p:cNvSpPr/>
                <p:nvPr/>
              </p:nvSpPr>
              <p:spPr>
                <a:xfrm rot="5376600">
                  <a:off x="7768800" y="2438280"/>
                  <a:ext cx="77760" cy="223920"/>
                </a:xfrm>
                <a:prstGeom prst="flowChartDelay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16176600">
                  <a:off x="7769160" y="2512800"/>
                  <a:ext cx="77760" cy="223920"/>
                </a:xfrm>
                <a:prstGeom prst="flowChartDelay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7689960" y="2057400"/>
                <a:ext cx="234720" cy="458640"/>
              </a:xfrm>
              <a:prstGeom prst="can">
                <a:avLst>
                  <a:gd name="adj" fmla="val 9342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2c0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0800000">
                <a:off x="7687800" y="2639880"/>
                <a:ext cx="235080" cy="819360"/>
              </a:xfrm>
              <a:prstGeom prst="can">
                <a:avLst>
                  <a:gd name="adj" fmla="val 207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2c0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128000" y="2895480"/>
                <a:ext cx="15228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89960" y="2743200"/>
                <a:ext cx="234720" cy="457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28120" y="2895480"/>
                <a:ext cx="152280" cy="152640"/>
              </a:xfrm>
              <a:prstGeom prst="noSmoking">
                <a:avLst>
                  <a:gd name="adj" fmla="val 125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162920" y="2787480"/>
                <a:ext cx="7596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162920" y="3105000"/>
                <a:ext cx="7596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772400" y="278748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72400" y="310500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7238520" y="5165280"/>
            <a:ext cx="2468880" cy="1463760"/>
            <a:chOff x="7238520" y="5165280"/>
            <a:chExt cx="2468880" cy="1463760"/>
          </a:xfrm>
        </p:grpSpPr>
        <p:sp>
          <p:nvSpPr>
            <p:cNvPr id="812" name=""/>
            <p:cNvSpPr/>
            <p:nvPr/>
          </p:nvSpPr>
          <p:spPr>
            <a:xfrm>
              <a:off x="8153280" y="5692680"/>
              <a:ext cx="155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omosomi sessuali differenzi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131680" y="51652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7238520" y="5227560"/>
              <a:ext cx="838800" cy="1401480"/>
              <a:chOff x="7238520" y="5227560"/>
              <a:chExt cx="838800" cy="1401480"/>
            </a:xfrm>
          </p:grpSpPr>
          <p:sp>
            <p:nvSpPr>
              <p:cNvPr id="815" name=""/>
              <p:cNvSpPr/>
              <p:nvPr/>
            </p:nvSpPr>
            <p:spPr>
              <a:xfrm>
                <a:off x="7480440" y="5303880"/>
                <a:ext cx="380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480440" y="5418000"/>
                <a:ext cx="380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7238520" y="5227560"/>
                <a:ext cx="236880" cy="1401120"/>
                <a:chOff x="7238520" y="5227560"/>
                <a:chExt cx="236880" cy="140112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7246440" y="5680800"/>
                  <a:ext cx="224640" cy="153360"/>
                  <a:chOff x="7246440" y="5680800"/>
                  <a:chExt cx="224640" cy="15336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rot="5376600">
                    <a:off x="7319880" y="560808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16176600">
                    <a:off x="7319880" y="568260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>
                  <a:off x="7240320" y="522756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10800000">
                  <a:off x="7238520" y="580968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7848000" y="5680800"/>
                <a:ext cx="224640" cy="154080"/>
                <a:chOff x="7848000" y="5680800"/>
                <a:chExt cx="224640" cy="154080"/>
              </a:xfrm>
            </p:grpSpPr>
            <p:sp>
              <p:nvSpPr>
                <p:cNvPr id="824" name=""/>
                <p:cNvSpPr/>
                <p:nvPr/>
              </p:nvSpPr>
              <p:spPr>
                <a:xfrm rot="5376600">
                  <a:off x="7921080" y="5608440"/>
                  <a:ext cx="77760" cy="223560"/>
                </a:xfrm>
                <a:prstGeom prst="flowChartDelay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16176600">
                  <a:off x="7921440" y="5683320"/>
                  <a:ext cx="77760" cy="223560"/>
                </a:xfrm>
                <a:prstGeom prst="flowChartDelay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7842240" y="5227560"/>
                <a:ext cx="235080" cy="461880"/>
              </a:xfrm>
              <a:prstGeom prst="can">
                <a:avLst>
                  <a:gd name="adj" fmla="val 9342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2c0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0800000">
                <a:off x="7840800" y="5810040"/>
                <a:ext cx="234720" cy="819000"/>
              </a:xfrm>
              <a:prstGeom prst="can">
                <a:avLst>
                  <a:gd name="adj" fmla="val 207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280280" y="6066000"/>
                <a:ext cx="152280" cy="15228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315200" y="5958000"/>
                <a:ext cx="76320" cy="7596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315200" y="6275520"/>
                <a:ext cx="76320" cy="7596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886880" y="6066000"/>
                <a:ext cx="152280" cy="152280"/>
              </a:xfrm>
              <a:prstGeom prst="noSmoking">
                <a:avLst>
                  <a:gd name="adj" fmla="val 125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842240" y="5454720"/>
                <a:ext cx="235080" cy="233280"/>
              </a:xfrm>
              <a:prstGeom prst="can">
                <a:avLst>
                  <a:gd name="adj" fmla="val 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113b2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924680" y="5950080"/>
                <a:ext cx="76320" cy="7596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918560" y="6273720"/>
                <a:ext cx="75960" cy="76320"/>
              </a:xfrm>
              <a:prstGeom prst="donut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600200" y="5384880"/>
            <a:ext cx="1295280" cy="786960"/>
            <a:chOff x="1600200" y="5384880"/>
            <a:chExt cx="1295280" cy="786960"/>
          </a:xfrm>
        </p:grpSpPr>
        <p:sp>
          <p:nvSpPr>
            <p:cNvPr id="836" name=""/>
            <p:cNvSpPr/>
            <p:nvPr/>
          </p:nvSpPr>
          <p:spPr>
            <a:xfrm>
              <a:off x="2073240" y="5384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0800000">
              <a:off x="1600200" y="5866920"/>
              <a:ext cx="1295280" cy="3049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729160" y="4462560"/>
            <a:ext cx="1877760" cy="2703600"/>
            <a:chOff x="2729160" y="4462560"/>
            <a:chExt cx="1877760" cy="2703600"/>
          </a:xfrm>
        </p:grpSpPr>
        <p:sp>
          <p:nvSpPr>
            <p:cNvPr id="839" name=""/>
            <p:cNvSpPr/>
            <p:nvPr/>
          </p:nvSpPr>
          <p:spPr>
            <a:xfrm>
              <a:off x="3289680" y="6767280"/>
              <a:ext cx="121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X   Y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uo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729160" y="51955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A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7400" y="511956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A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50720" y="52718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93240" y="4462560"/>
              <a:ext cx="17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MORF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53341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3276360" y="5257800"/>
              <a:ext cx="236880" cy="1401120"/>
              <a:chOff x="3276360" y="5257800"/>
              <a:chExt cx="236880" cy="1401120"/>
            </a:xfrm>
          </p:grpSpPr>
          <p:grpSp>
            <p:nvGrpSpPr>
              <p:cNvPr id="846" name=""/>
              <p:cNvGrpSpPr/>
              <p:nvPr/>
            </p:nvGrpSpPr>
            <p:grpSpPr>
              <a:xfrm>
                <a:off x="3276360" y="5257800"/>
                <a:ext cx="236880" cy="1401120"/>
                <a:chOff x="3276360" y="5257800"/>
                <a:chExt cx="236880" cy="140112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3284280" y="5711040"/>
                  <a:ext cx="224640" cy="153360"/>
                  <a:chOff x="3284280" y="5711040"/>
                  <a:chExt cx="224640" cy="15336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 rot="5376600">
                    <a:off x="3357720" y="563832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16176600">
                    <a:off x="3357720" y="571284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" name=""/>
                <p:cNvSpPr/>
                <p:nvPr/>
              </p:nvSpPr>
              <p:spPr>
                <a:xfrm>
                  <a:off x="3278160" y="525780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0800000">
                  <a:off x="3276360" y="583992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3317760" y="6095880"/>
                <a:ext cx="15264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2680" y="598788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2680" y="630540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877920" y="5302080"/>
              <a:ext cx="236880" cy="660240"/>
              <a:chOff x="3877920" y="5302080"/>
              <a:chExt cx="236880" cy="66024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3885840" y="5421960"/>
                <a:ext cx="224640" cy="144360"/>
                <a:chOff x="3885840" y="5421960"/>
                <a:chExt cx="224640" cy="144360"/>
              </a:xfrm>
            </p:grpSpPr>
            <p:sp>
              <p:nvSpPr>
                <p:cNvPr id="857" name=""/>
                <p:cNvSpPr/>
                <p:nvPr/>
              </p:nvSpPr>
              <p:spPr>
                <a:xfrm rot="5376600">
                  <a:off x="3961440" y="5347080"/>
                  <a:ext cx="72720" cy="223920"/>
                </a:xfrm>
                <a:prstGeom prst="flowChartDelay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16176600">
                  <a:off x="3961800" y="5416920"/>
                  <a:ext cx="72720" cy="223920"/>
                </a:xfrm>
                <a:prstGeom prst="flowChartDelay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3879720" y="5302080"/>
                <a:ext cx="235080" cy="147600"/>
                <a:chOff x="3879720" y="5302080"/>
                <a:chExt cx="235080" cy="1476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3879720" y="5302080"/>
                  <a:ext cx="235080" cy="142560"/>
                </a:xfrm>
                <a:prstGeom prst="can">
                  <a:avLst>
                    <a:gd name="adj" fmla="val 3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113b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930480" y="5355720"/>
                  <a:ext cx="119160" cy="93960"/>
                </a:xfrm>
                <a:prstGeom prst="noSmoking">
                  <a:avLst>
                    <a:gd name="adj" fmla="val 12500"/>
                  </a:avLst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3877920" y="5546160"/>
                <a:ext cx="235440" cy="416160"/>
                <a:chOff x="3877920" y="5546160"/>
                <a:chExt cx="235440" cy="416160"/>
              </a:xfrm>
            </p:grpSpPr>
            <p:sp>
              <p:nvSpPr>
                <p:cNvPr id="863" name=""/>
                <p:cNvSpPr/>
                <p:nvPr/>
              </p:nvSpPr>
              <p:spPr>
                <a:xfrm rot="10800000">
                  <a:off x="3877920" y="5546160"/>
                  <a:ext cx="235080" cy="29988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113b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962520" y="5562360"/>
                  <a:ext cx="75960" cy="712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956040" y="5655960"/>
                  <a:ext cx="76320" cy="71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878280" y="5763960"/>
                  <a:ext cx="235080" cy="198360"/>
                </a:xfrm>
                <a:prstGeom prst="can">
                  <a:avLst>
                    <a:gd name="adj" fmla="val 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7" name=""/>
          <p:cNvGrpSpPr/>
          <p:nvPr/>
        </p:nvGrpSpPr>
        <p:grpSpPr>
          <a:xfrm>
            <a:off x="63720" y="4624560"/>
            <a:ext cx="1593360" cy="2465280"/>
            <a:chOff x="63720" y="4624560"/>
            <a:chExt cx="1593360" cy="2465280"/>
          </a:xfrm>
        </p:grpSpPr>
        <p:sp>
          <p:nvSpPr>
            <p:cNvPr id="868" name=""/>
            <p:cNvSpPr/>
            <p:nvPr/>
          </p:nvSpPr>
          <p:spPr>
            <a:xfrm>
              <a:off x="568080" y="669096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720" y="4624560"/>
              <a:ext cx="15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 FUTURO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09120" y="5254560"/>
              <a:ext cx="236880" cy="1401120"/>
              <a:chOff x="609120" y="5254560"/>
              <a:chExt cx="236880" cy="14011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609120" y="5254560"/>
                <a:ext cx="236880" cy="1401120"/>
                <a:chOff x="609120" y="5254560"/>
                <a:chExt cx="236880" cy="140112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17040" y="5707800"/>
                  <a:ext cx="224640" cy="153360"/>
                  <a:chOff x="617040" y="5707800"/>
                  <a:chExt cx="224640" cy="1533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5376600">
                    <a:off x="690480" y="563508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16176600">
                    <a:off x="690480" y="5709600"/>
                    <a:ext cx="77400" cy="223920"/>
                  </a:xfrm>
                  <a:prstGeom prst="flowChartDelay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5" name=""/>
                <p:cNvSpPr/>
                <p:nvPr/>
              </p:nvSpPr>
              <p:spPr>
                <a:xfrm>
                  <a:off x="610920" y="5254560"/>
                  <a:ext cx="235080" cy="458640"/>
                </a:xfrm>
                <a:prstGeom prst="can">
                  <a:avLst>
                    <a:gd name="adj" fmla="val 934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0800000">
                  <a:off x="609120" y="5836680"/>
                  <a:ext cx="235080" cy="81900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2c02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50520" y="6092640"/>
                <a:ext cx="152640" cy="15264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85440" y="598464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85440" y="6302160"/>
                <a:ext cx="76320" cy="76320"/>
              </a:xfrm>
              <a:prstGeom prst="donut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"/>
          <p:cNvGrpSpPr/>
          <p:nvPr/>
        </p:nvGrpSpPr>
        <p:grpSpPr>
          <a:xfrm>
            <a:off x="4673520" y="5217840"/>
            <a:ext cx="2336760" cy="1797480"/>
            <a:chOff x="4673520" y="5217840"/>
            <a:chExt cx="2336760" cy="1797480"/>
          </a:xfrm>
        </p:grpSpPr>
        <p:sp>
          <p:nvSpPr>
            <p:cNvPr id="881" name=""/>
            <p:cNvSpPr/>
            <p:nvPr/>
          </p:nvSpPr>
          <p:spPr>
            <a:xfrm rot="10800000">
              <a:off x="4876920" y="5866920"/>
              <a:ext cx="1295280" cy="304920"/>
            </a:xfrm>
            <a:custGeom>
              <a:avLst/>
              <a:gdLst>
                <a:gd name="textAreaLeft" fmla="*/ 202320 w 1295280"/>
                <a:gd name="textAreaRight" fmla="*/ 1133640 w 12952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73520" y="5217840"/>
              <a:ext cx="2336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erdita di segmen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 cromosoma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cromatizz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l’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88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45680" y="1905120"/>
            <a:ext cx="2996640" cy="5029200"/>
            <a:chOff x="445680" y="1905120"/>
            <a:chExt cx="2996640" cy="5029200"/>
          </a:xfrm>
        </p:grpSpPr>
        <p:grpSp>
          <p:nvGrpSpPr>
            <p:cNvPr id="890" name=""/>
            <p:cNvGrpSpPr/>
            <p:nvPr/>
          </p:nvGrpSpPr>
          <p:grpSpPr>
            <a:xfrm>
              <a:off x="856440" y="3961440"/>
              <a:ext cx="363600" cy="484920"/>
              <a:chOff x="856440" y="3961440"/>
              <a:chExt cx="363600" cy="484920"/>
            </a:xfrm>
          </p:grpSpPr>
          <p:sp>
            <p:nvSpPr>
              <p:cNvPr id="891" name=""/>
              <p:cNvSpPr/>
              <p:nvPr/>
            </p:nvSpPr>
            <p:spPr>
              <a:xfrm rot="5376600">
                <a:off x="915480" y="3904560"/>
                <a:ext cx="245520" cy="361440"/>
              </a:xfrm>
              <a:prstGeom prst="flowChartDelay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6176600">
                <a:off x="915120" y="4141440"/>
                <a:ext cx="245520" cy="361440"/>
              </a:xfrm>
              <a:prstGeom prst="flowChartDelay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854280" y="2590920"/>
              <a:ext cx="380880" cy="1447920"/>
            </a:xfrm>
            <a:prstGeom prst="can">
              <a:avLst>
                <a:gd name="adj" fmla="val 4824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0800000">
              <a:off x="854280" y="4343760"/>
              <a:ext cx="380880" cy="2590560"/>
            </a:xfrm>
            <a:prstGeom prst="can">
              <a:avLst>
                <a:gd name="adj" fmla="val 2078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54280" y="274356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fe2c0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54280" y="3124440"/>
              <a:ext cx="380880" cy="165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54280" y="335304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54280" y="369612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54280" y="386100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4280" y="4394520"/>
              <a:ext cx="380880" cy="25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54280" y="502956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4280" y="5334120"/>
              <a:ext cx="380880" cy="241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54280" y="5562720"/>
              <a:ext cx="380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54280" y="5867640"/>
              <a:ext cx="38088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54280" y="6527880"/>
              <a:ext cx="380880" cy="25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54280" y="6185160"/>
              <a:ext cx="380880" cy="216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6400" y="3001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5680" y="4759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51040" y="2590920"/>
              <a:ext cx="380880" cy="10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30600" y="2592720"/>
              <a:ext cx="380880" cy="380880"/>
            </a:xfrm>
            <a:prstGeom prst="can">
              <a:avLst>
                <a:gd name="adj" fmla="val 14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0800000">
              <a:off x="2730600" y="3633840"/>
              <a:ext cx="380880" cy="533160"/>
            </a:xfrm>
            <a:prstGeom prst="can">
              <a:avLst>
                <a:gd name="adj" fmla="val 1219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30600" y="2706840"/>
              <a:ext cx="380880" cy="7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0800000">
              <a:off x="2730600" y="3125880"/>
              <a:ext cx="380880" cy="533520"/>
            </a:xfrm>
            <a:prstGeom prst="can">
              <a:avLst>
                <a:gd name="adj" fmla="val 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30600" y="3152880"/>
              <a:ext cx="380880" cy="112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30600" y="3303720"/>
              <a:ext cx="380880" cy="18252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0113b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736720" y="2959920"/>
              <a:ext cx="362160" cy="154080"/>
              <a:chOff x="2736720" y="2959920"/>
              <a:chExt cx="362160" cy="154080"/>
            </a:xfrm>
          </p:grpSpPr>
          <p:sp>
            <p:nvSpPr>
              <p:cNvPr id="917" name=""/>
              <p:cNvSpPr/>
              <p:nvPr/>
            </p:nvSpPr>
            <p:spPr>
              <a:xfrm rot="5376600">
                <a:off x="2878920" y="2818800"/>
                <a:ext cx="77400" cy="361440"/>
              </a:xfrm>
              <a:prstGeom prst="flowChartDelay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176600">
                <a:off x="2878920" y="2893320"/>
                <a:ext cx="77400" cy="361440"/>
              </a:xfrm>
              <a:prstGeom prst="flowChartDelay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3099960" y="3376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084840" y="25383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30600" y="2592720"/>
              <a:ext cx="380880" cy="88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1178280" y="2300760"/>
              <a:ext cx="462960" cy="27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4600" y="23623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24240" y="1905120"/>
              <a:ext cx="9903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95640" y="2514960"/>
              <a:ext cx="1371600" cy="457200"/>
            </a:xfrm>
            <a:prstGeom prst="leftRightArrow">
              <a:avLst>
                <a:gd name="adj1" fmla="val 50000"/>
                <a:gd name="adj2" fmla="val 59722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PR 225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24240" y="3353040"/>
              <a:ext cx="1066680" cy="914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924ab"/>
                </a:gs>
                <a:gs pos="50000">
                  <a:srgbClr val="b2b2b2"/>
                </a:gs>
                <a:gs pos="100000">
                  <a:srgbClr val="8924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2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K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1231560" y="289584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90920" y="33530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694200" y="1905120"/>
            <a:ext cx="2996640" cy="5028840"/>
            <a:chOff x="6694200" y="1905120"/>
            <a:chExt cx="2996640" cy="5028840"/>
          </a:xfrm>
        </p:grpSpPr>
        <p:grpSp>
          <p:nvGrpSpPr>
            <p:cNvPr id="930" name=""/>
            <p:cNvGrpSpPr/>
            <p:nvPr/>
          </p:nvGrpSpPr>
          <p:grpSpPr>
            <a:xfrm>
              <a:off x="7104600" y="3961440"/>
              <a:ext cx="363600" cy="484920"/>
              <a:chOff x="7104600" y="3961440"/>
              <a:chExt cx="363600" cy="484920"/>
            </a:xfrm>
          </p:grpSpPr>
          <p:sp>
            <p:nvSpPr>
              <p:cNvPr id="931" name=""/>
              <p:cNvSpPr/>
              <p:nvPr/>
            </p:nvSpPr>
            <p:spPr>
              <a:xfrm rot="5376600">
                <a:off x="7163640" y="3904560"/>
                <a:ext cx="245520" cy="361440"/>
              </a:xfrm>
              <a:prstGeom prst="flowChartDelay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6176600">
                <a:off x="7163280" y="4141440"/>
                <a:ext cx="245520" cy="361440"/>
              </a:xfrm>
              <a:prstGeom prst="flowChartDelay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7102440" y="2590920"/>
              <a:ext cx="380880" cy="1447920"/>
            </a:xfrm>
            <a:prstGeom prst="can">
              <a:avLst>
                <a:gd name="adj" fmla="val 4824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0800000">
              <a:off x="7102440" y="4343040"/>
              <a:ext cx="380880" cy="2590920"/>
            </a:xfrm>
            <a:prstGeom prst="can">
              <a:avLst>
                <a:gd name="adj" fmla="val 2078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02440" y="2743200"/>
              <a:ext cx="380880" cy="15264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fe2c0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02440" y="3124440"/>
              <a:ext cx="380880" cy="164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02440" y="335304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02440" y="369576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02440" y="3861000"/>
              <a:ext cx="380880" cy="1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02440" y="4394160"/>
              <a:ext cx="380880" cy="25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02440" y="5029200"/>
              <a:ext cx="380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02440" y="5334120"/>
              <a:ext cx="380880" cy="241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02440" y="556272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02440" y="5867640"/>
              <a:ext cx="380880" cy="21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02440" y="6527880"/>
              <a:ext cx="380880" cy="25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6185160"/>
              <a:ext cx="380880" cy="21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694920" y="3001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94200" y="4759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099200" y="2590920"/>
              <a:ext cx="381240" cy="101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978760" y="2592360"/>
              <a:ext cx="381240" cy="381240"/>
            </a:xfrm>
            <a:prstGeom prst="can">
              <a:avLst>
                <a:gd name="adj" fmla="val 14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0800000">
              <a:off x="8978400" y="3633840"/>
              <a:ext cx="381240" cy="533520"/>
            </a:xfrm>
            <a:prstGeom prst="can">
              <a:avLst>
                <a:gd name="adj" fmla="val 12199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978760" y="2706840"/>
              <a:ext cx="38124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0800000">
              <a:off x="8978400" y="3125880"/>
              <a:ext cx="381240" cy="533520"/>
            </a:xfrm>
            <a:prstGeom prst="can">
              <a:avLst>
                <a:gd name="adj" fmla="val 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978760" y="3152880"/>
              <a:ext cx="381240" cy="112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978760" y="3303720"/>
              <a:ext cx="381240" cy="182520"/>
            </a:xfrm>
            <a:prstGeom prst="rect">
              <a:avLst/>
            </a:prstGeom>
            <a:gradFill rotWithShape="0">
              <a:gsLst>
                <a:gs pos="0">
                  <a:srgbClr val="b02fd9"/>
                </a:gs>
                <a:gs pos="50000">
                  <a:srgbClr val="0113b2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8984880" y="2959560"/>
              <a:ext cx="362160" cy="154800"/>
              <a:chOff x="8984880" y="2959560"/>
              <a:chExt cx="362160" cy="154800"/>
            </a:xfrm>
          </p:grpSpPr>
          <p:sp>
            <p:nvSpPr>
              <p:cNvPr id="957" name=""/>
              <p:cNvSpPr/>
              <p:nvPr/>
            </p:nvSpPr>
            <p:spPr>
              <a:xfrm rot="5376600">
                <a:off x="9126720" y="2818800"/>
                <a:ext cx="77760" cy="361440"/>
              </a:xfrm>
              <a:prstGeom prst="flowChartDelay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6176600">
                <a:off x="9127080" y="2893320"/>
                <a:ext cx="77760" cy="361440"/>
              </a:xfrm>
              <a:prstGeom prst="flowChartDelay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9348480" y="3376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333360" y="25380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978760" y="2592360"/>
              <a:ext cx="381240" cy="88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7426080" y="2300760"/>
              <a:ext cx="463320" cy="27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63120" y="2362320"/>
              <a:ext cx="3045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72400" y="1905120"/>
              <a:ext cx="99072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43800" y="2514600"/>
              <a:ext cx="1371600" cy="457200"/>
            </a:xfrm>
            <a:prstGeom prst="leftRightArrow">
              <a:avLst>
                <a:gd name="adj1" fmla="val 50000"/>
                <a:gd name="adj2" fmla="val 59722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72400" y="3353040"/>
              <a:ext cx="1066680" cy="914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924ab"/>
                </a:gs>
                <a:gs pos="50000">
                  <a:srgbClr val="b2b2b2"/>
                </a:gs>
                <a:gs pos="100000">
                  <a:srgbClr val="8924a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8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4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7480440" y="289584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39080" y="335304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60404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 cromosomi sessuali in 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523880" y="1279080"/>
            <a:ext cx="8001000" cy="5502240"/>
            <a:chOff x="1523880" y="1279080"/>
            <a:chExt cx="8001000" cy="5502240"/>
          </a:xfrm>
        </p:grpSpPr>
        <p:grpSp>
          <p:nvGrpSpPr>
            <p:cNvPr id="971" name=""/>
            <p:cNvGrpSpPr/>
            <p:nvPr/>
          </p:nvGrpSpPr>
          <p:grpSpPr>
            <a:xfrm>
              <a:off x="3907080" y="3152520"/>
              <a:ext cx="570240" cy="587160"/>
              <a:chOff x="3907080" y="3152520"/>
              <a:chExt cx="570240" cy="587160"/>
            </a:xfrm>
          </p:grpSpPr>
          <p:sp>
            <p:nvSpPr>
              <p:cNvPr id="972" name=""/>
              <p:cNvSpPr/>
              <p:nvPr/>
            </p:nvSpPr>
            <p:spPr>
              <a:xfrm rot="5376600">
                <a:off x="4043160" y="3018960"/>
                <a:ext cx="297000" cy="567720"/>
              </a:xfrm>
              <a:prstGeom prst="flowChartDelay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6176600">
                <a:off x="4043880" y="3305160"/>
                <a:ext cx="297000" cy="567720"/>
              </a:xfrm>
              <a:prstGeom prst="flowChartDelay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3887640" y="1523880"/>
              <a:ext cx="598680" cy="1752840"/>
            </a:xfrm>
            <a:prstGeom prst="can">
              <a:avLst>
                <a:gd name="adj" fmla="val 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0800000">
              <a:off x="3887280" y="3644640"/>
              <a:ext cx="598680" cy="3136680"/>
            </a:xfrm>
            <a:prstGeom prst="can">
              <a:avLst>
                <a:gd name="adj" fmla="val 2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87640" y="1708200"/>
              <a:ext cx="59868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887640" y="2170080"/>
              <a:ext cx="598680" cy="20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87640" y="2446200"/>
              <a:ext cx="59868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7640" y="2862360"/>
              <a:ext cx="598680" cy="12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87640" y="3060720"/>
              <a:ext cx="598680" cy="123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87640" y="3706920"/>
              <a:ext cx="598680" cy="30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87640" y="4475160"/>
              <a:ext cx="598680" cy="185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87640" y="4844880"/>
              <a:ext cx="598680" cy="292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87640" y="5121360"/>
              <a:ext cx="59868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87640" y="5491080"/>
              <a:ext cx="598680" cy="26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87640" y="6289560"/>
              <a:ext cx="598680" cy="30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87640" y="5875200"/>
              <a:ext cx="598680" cy="260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30960" y="2061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631680" y="41907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831080" y="3597120"/>
              <a:ext cx="600120" cy="462240"/>
            </a:xfrm>
            <a:prstGeom prst="can">
              <a:avLst>
                <a:gd name="adj" fmla="val 14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0800000">
              <a:off x="7830720" y="4857480"/>
              <a:ext cx="600120" cy="646200"/>
            </a:xfrm>
            <a:prstGeom prst="can">
              <a:avLst>
                <a:gd name="adj" fmla="val 12199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31080" y="3735360"/>
              <a:ext cx="600120" cy="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10800000">
              <a:off x="7830720" y="4242960"/>
              <a:ext cx="600120" cy="646200"/>
            </a:xfrm>
            <a:prstGeom prst="can">
              <a:avLst>
                <a:gd name="adj" fmla="val 2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31080" y="4275000"/>
              <a:ext cx="600120" cy="136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31080" y="4551480"/>
              <a:ext cx="600120" cy="12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7840440" y="4041720"/>
              <a:ext cx="570240" cy="187560"/>
              <a:chOff x="7840440" y="4041720"/>
              <a:chExt cx="570240" cy="187560"/>
            </a:xfrm>
          </p:grpSpPr>
          <p:sp>
            <p:nvSpPr>
              <p:cNvPr id="997" name=""/>
              <p:cNvSpPr/>
              <p:nvPr/>
            </p:nvSpPr>
            <p:spPr>
              <a:xfrm rot="5376600">
                <a:off x="8078400" y="3805560"/>
                <a:ext cx="93600" cy="569520"/>
              </a:xfrm>
              <a:prstGeom prst="flowChartDelay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176600">
                <a:off x="8078760" y="3895560"/>
                <a:ext cx="93600" cy="569520"/>
              </a:xfrm>
              <a:prstGeom prst="flowChartDelay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8397360" y="45889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71080" y="35730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1" name=""/>
            <p:cNvCxnSpPr/>
            <p:nvPr/>
          </p:nvCxnSpPr>
          <p:spPr>
            <a:xfrm flipV="1">
              <a:off x="4524480" y="5485680"/>
              <a:ext cx="3363120" cy="1173960"/>
            </a:xfrm>
            <a:prstGeom prst="bentConnector3">
              <a:avLst>
                <a:gd name="adj1" fmla="val 49994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02" name=""/>
            <p:cNvSpPr/>
            <p:nvPr/>
          </p:nvSpPr>
          <p:spPr>
            <a:xfrm>
              <a:off x="6161040" y="59274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3" name=""/>
            <p:cNvCxnSpPr/>
            <p:nvPr/>
          </p:nvCxnSpPr>
          <p:spPr>
            <a:xfrm>
              <a:off x="4543200" y="1595160"/>
              <a:ext cx="3267720" cy="207540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04" name=""/>
            <p:cNvSpPr/>
            <p:nvPr/>
          </p:nvSpPr>
          <p:spPr>
            <a:xfrm>
              <a:off x="6246720" y="20761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7290720" y="3629520"/>
              <a:ext cx="631800" cy="752040"/>
              <a:chOff x="7290720" y="3629520"/>
              <a:chExt cx="631800" cy="7520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315200" y="3898800"/>
                <a:ext cx="457200" cy="763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90720" y="3629520"/>
                <a:ext cx="63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KX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27800" y="4305240"/>
                <a:ext cx="457200" cy="76320"/>
              </a:xfrm>
              <a:prstGeom prst="rect">
                <a:avLst/>
              </a:prstGeom>
              <a:solidFill>
                <a:srgbClr val="fe2c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1533240" y="1279080"/>
              <a:ext cx="2276640" cy="778320"/>
              <a:chOff x="1533240" y="1279080"/>
              <a:chExt cx="2276640" cy="778320"/>
            </a:xfrm>
          </p:grpSpPr>
          <p:sp>
            <p:nvSpPr>
              <p:cNvPr id="1010" name=""/>
              <p:cNvSpPr/>
              <p:nvPr/>
            </p:nvSpPr>
            <p:spPr>
              <a:xfrm>
                <a:off x="2514600" y="1523880"/>
                <a:ext cx="1295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1533240" y="1279080"/>
                <a:ext cx="849600" cy="778320"/>
                <a:chOff x="1533240" y="1279080"/>
                <a:chExt cx="849600" cy="77832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1533240" y="1279080"/>
                  <a:ext cx="849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Xp22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596240" y="1540080"/>
                  <a:ext cx="6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PKX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676520" y="1828800"/>
                  <a:ext cx="457200" cy="76320"/>
                </a:xfrm>
                <a:prstGeom prst="rect">
                  <a:avLst/>
                </a:prstGeom>
                <a:solidFill>
                  <a:srgbClr val="fe2c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676520" y="1981080"/>
                  <a:ext cx="457200" cy="763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1523880" y="2024640"/>
              <a:ext cx="2277720" cy="935280"/>
              <a:chOff x="1523880" y="2024640"/>
              <a:chExt cx="2277720" cy="935280"/>
            </a:xfrm>
          </p:grpSpPr>
          <p:cxnSp>
            <p:nvCxnSpPr>
              <p:cNvPr id="1017" name=""/>
              <p:cNvCxnSpPr/>
              <p:nvPr/>
            </p:nvCxnSpPr>
            <p:spPr>
              <a:xfrm rot="5400000">
                <a:off x="2766960" y="1555560"/>
                <a:ext cx="553320" cy="1516680"/>
              </a:xfrm>
              <a:prstGeom prst="bentConnector4">
                <a:avLst>
                  <a:gd name="adj1" fmla="val -2278"/>
                  <a:gd name="adj2" fmla="val 55270"/>
                </a:avLst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018" name=""/>
              <p:cNvSpPr/>
              <p:nvPr/>
            </p:nvSpPr>
            <p:spPr>
              <a:xfrm>
                <a:off x="1523880" y="2397600"/>
                <a:ext cx="7203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p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ZF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MG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6073200" y="3656160"/>
              <a:ext cx="3413520" cy="858240"/>
              <a:chOff x="6073200" y="3656160"/>
              <a:chExt cx="3413520" cy="858240"/>
            </a:xfrm>
          </p:grpSpPr>
          <p:cxnSp>
            <p:nvCxnSpPr>
              <p:cNvPr id="1020" name=""/>
              <p:cNvCxnSpPr/>
              <p:nvPr/>
            </p:nvCxnSpPr>
            <p:spPr>
              <a:xfrm flipV="1" rot="10800000">
                <a:off x="6705000" y="4038120"/>
                <a:ext cx="1143720" cy="326160"/>
              </a:xfrm>
              <a:prstGeom prst="bentConnector3">
                <a:avLst>
                  <a:gd name="adj1" fmla="val 62909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21" name=""/>
              <p:cNvGrpSpPr/>
              <p:nvPr/>
            </p:nvGrpSpPr>
            <p:grpSpPr>
              <a:xfrm>
                <a:off x="6073200" y="3656160"/>
                <a:ext cx="3413520" cy="858240"/>
                <a:chOff x="6073200" y="3656160"/>
                <a:chExt cx="3413520" cy="85824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8458200" y="3656160"/>
                  <a:ext cx="1028520" cy="307080"/>
                  <a:chOff x="8458200" y="3656160"/>
                  <a:chExt cx="1028520" cy="3070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8458200" y="3809880"/>
                    <a:ext cx="533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8993520" y="3656160"/>
                    <a:ext cx="4932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ZF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5" name=""/>
                <p:cNvSpPr/>
                <p:nvPr/>
              </p:nvSpPr>
              <p:spPr>
                <a:xfrm>
                  <a:off x="6073200" y="4207320"/>
                  <a:ext cx="71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MG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6" name=""/>
            <p:cNvGrpSpPr/>
            <p:nvPr/>
          </p:nvGrpSpPr>
          <p:grpSpPr>
            <a:xfrm>
              <a:off x="2415600" y="3817440"/>
              <a:ext cx="1470240" cy="500400"/>
              <a:chOff x="2415600" y="3817440"/>
              <a:chExt cx="1470240" cy="500400"/>
            </a:xfrm>
          </p:grpSpPr>
          <p:sp>
            <p:nvSpPr>
              <p:cNvPr id="1027" name=""/>
              <p:cNvSpPr/>
              <p:nvPr/>
            </p:nvSpPr>
            <p:spPr>
              <a:xfrm flipH="1">
                <a:off x="3200040" y="41148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415600" y="3817440"/>
                <a:ext cx="7279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q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PS4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514600" y="4241880"/>
                <a:ext cx="457200" cy="759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442240" y="4664160"/>
              <a:ext cx="1443600" cy="517320"/>
              <a:chOff x="2442240" y="4664160"/>
              <a:chExt cx="1443600" cy="517320"/>
            </a:xfrm>
          </p:grpSpPr>
          <p:sp>
            <p:nvSpPr>
              <p:cNvPr id="1031" name=""/>
              <p:cNvSpPr/>
              <p:nvPr/>
            </p:nvSpPr>
            <p:spPr>
              <a:xfrm>
                <a:off x="2442240" y="4664160"/>
                <a:ext cx="6760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q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200040" y="48006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514600" y="4952880"/>
                <a:ext cx="45720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14600" y="5105520"/>
                <a:ext cx="457200" cy="759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6248520" y="4114800"/>
              <a:ext cx="3276360" cy="457200"/>
              <a:chOff x="6248520" y="4114800"/>
              <a:chExt cx="3276360" cy="457200"/>
            </a:xfrm>
          </p:grpSpPr>
          <p:sp>
            <p:nvSpPr>
              <p:cNvPr id="1036" name=""/>
              <p:cNvSpPr/>
              <p:nvPr/>
            </p:nvSpPr>
            <p:spPr>
              <a:xfrm>
                <a:off x="9067680" y="4114800"/>
                <a:ext cx="45720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48520" y="4495680"/>
                <a:ext cx="45720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4572000" y="6477120"/>
              <a:ext cx="457200" cy="759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15200" y="4572000"/>
              <a:ext cx="45720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1841400" y="5449680"/>
            <a:ext cx="4149720" cy="825480"/>
            <a:chOff x="1841400" y="5449680"/>
            <a:chExt cx="4149720" cy="825480"/>
          </a:xfrm>
        </p:grpSpPr>
        <p:sp>
          <p:nvSpPr>
            <p:cNvPr id="1041" name=""/>
            <p:cNvSpPr/>
            <p:nvPr/>
          </p:nvSpPr>
          <p:spPr>
            <a:xfrm>
              <a:off x="2314440" y="5449680"/>
              <a:ext cx="36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sa ci dice l’omolog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 sequenza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2" name="" descr=""/>
            <p:cNvPicPr/>
            <p:nvPr/>
          </p:nvPicPr>
          <p:blipFill>
            <a:blip r:embed="rId23"/>
            <a:stretch/>
          </p:blipFill>
          <p:spPr>
            <a:xfrm>
              <a:off x="1841400" y="5486400"/>
              <a:ext cx="618840" cy="78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30120" y="1769400"/>
            <a:ext cx="929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gene della sindrome di Kallman (KAL) e’ localizzato in una grande regione di omologia tra il braccio corto distale del cromosoma X (Xp22.3) e il braccio lungo prossimale del cromosoma Yq11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" y="4011120"/>
            <a:ext cx="9448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uesta regione di omologia potrebbe essere parte di una regione pseudoautosomica ancestrale che e’ stata interrotta da un’inversione pericentrica che sarebbe avvenuta sul cromosoma Y recentemente nell’evolu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mologia Xp-Y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83930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800" spc="-1" strike="noStrike">
                <a:solidFill>
                  <a:srgbClr val="ff0003"/>
                </a:solidFill>
                <a:latin typeface="Comic Sans MS"/>
              </a:rPr>
              <a:t>L’EVOLUZIONE DEI CROMOSOMI SESSUALI E DELLA P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rigine del cromosoma Y dell’uom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2869200" y="1881720"/>
            <a:ext cx="776160" cy="2514240"/>
            <a:chOff x="2869200" y="1881720"/>
            <a:chExt cx="776160" cy="2514240"/>
          </a:xfrm>
        </p:grpSpPr>
        <p:sp>
          <p:nvSpPr>
            <p:cNvPr id="1060" name=""/>
            <p:cNvSpPr/>
            <p:nvPr/>
          </p:nvSpPr>
          <p:spPr>
            <a:xfrm>
              <a:off x="2869200" y="188172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933640" y="2766600"/>
              <a:ext cx="711720" cy="1629360"/>
              <a:chOff x="2933640" y="2766600"/>
              <a:chExt cx="711720" cy="1629360"/>
            </a:xfrm>
          </p:grpSpPr>
          <p:sp>
            <p:nvSpPr>
              <p:cNvPr id="1062" name=""/>
              <p:cNvSpPr/>
              <p:nvPr/>
            </p:nvSpPr>
            <p:spPr>
              <a:xfrm>
                <a:off x="2933640" y="2820960"/>
                <a:ext cx="380880" cy="381240"/>
              </a:xfrm>
              <a:prstGeom prst="can">
                <a:avLst>
                  <a:gd name="adj" fmla="val 1428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933640" y="2935440"/>
                <a:ext cx="380880" cy="74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800000">
                <a:off x="2933640" y="3862440"/>
                <a:ext cx="380880" cy="533520"/>
              </a:xfrm>
              <a:prstGeom prst="can">
                <a:avLst>
                  <a:gd name="adj" fmla="val 12199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0800000">
                <a:off x="2933640" y="3354480"/>
                <a:ext cx="380880" cy="533520"/>
              </a:xfrm>
              <a:prstGeom prst="can">
                <a:avLst>
                  <a:gd name="adj" fmla="val 296"/>
                </a:avLst>
              </a:prstGeom>
              <a:gradFill rotWithShape="0">
                <a:gsLst>
                  <a:gs pos="0">
                    <a:srgbClr val="3333cc"/>
                  </a:gs>
                  <a:gs pos="5000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33640" y="3381480"/>
                <a:ext cx="380880" cy="11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33640" y="2895840"/>
                <a:ext cx="380880" cy="334800"/>
              </a:xfrm>
              <a:prstGeom prst="rect">
                <a:avLst/>
              </a:prstGeom>
              <a:gradFill rotWithShape="0">
                <a:gsLst>
                  <a:gs pos="0">
                    <a:srgbClr val="b02fd9"/>
                  </a:gs>
                  <a:gs pos="50000">
                    <a:srgbClr val="ffffff"/>
                  </a:gs>
                  <a:gs pos="100000">
                    <a:srgbClr val="b02fd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2939040" y="3188160"/>
                <a:ext cx="362880" cy="154800"/>
                <a:chOff x="2939040" y="3188160"/>
                <a:chExt cx="362880" cy="154800"/>
              </a:xfrm>
            </p:grpSpPr>
            <p:sp>
              <p:nvSpPr>
                <p:cNvPr id="1069" name=""/>
                <p:cNvSpPr/>
                <p:nvPr/>
              </p:nvSpPr>
              <p:spPr>
                <a:xfrm rot="5376600">
                  <a:off x="3081240" y="3047040"/>
                  <a:ext cx="77760" cy="361800"/>
                </a:xfrm>
                <a:prstGeom prst="flowChartDelay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6176600">
                  <a:off x="3081600" y="3121920"/>
                  <a:ext cx="77760" cy="361800"/>
                </a:xfrm>
                <a:prstGeom prst="flowChartDelay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1" name=""/>
              <p:cNvSpPr/>
              <p:nvPr/>
            </p:nvSpPr>
            <p:spPr>
              <a:xfrm>
                <a:off x="3303000" y="36050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287880" y="2766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3" name=""/>
          <p:cNvGrpSpPr/>
          <p:nvPr/>
        </p:nvGrpSpPr>
        <p:grpSpPr>
          <a:xfrm>
            <a:off x="1330560" y="1523880"/>
            <a:ext cx="1641240" cy="1295640"/>
            <a:chOff x="1330560" y="1523880"/>
            <a:chExt cx="1641240" cy="1295640"/>
          </a:xfrm>
        </p:grpSpPr>
        <p:sp>
          <p:nvSpPr>
            <p:cNvPr id="1074" name=""/>
            <p:cNvSpPr/>
            <p:nvPr/>
          </p:nvSpPr>
          <p:spPr>
            <a:xfrm flipH="1">
              <a:off x="1330560" y="2529000"/>
              <a:ext cx="4629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00200" y="1523880"/>
              <a:ext cx="1219320" cy="1067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d2cdc"/>
                </a:gs>
                <a:gs pos="50000">
                  <a:srgbClr val="ffffff"/>
                </a:gs>
                <a:gs pos="100000">
                  <a:srgbClr val="ad2cd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2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K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66880" y="25909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97960" y="1932480"/>
            <a:ext cx="789480" cy="5230080"/>
            <a:chOff x="597960" y="1932480"/>
            <a:chExt cx="789480" cy="5230080"/>
          </a:xfrm>
        </p:grpSpPr>
        <p:sp>
          <p:nvSpPr>
            <p:cNvPr id="1078" name=""/>
            <p:cNvSpPr/>
            <p:nvPr/>
          </p:nvSpPr>
          <p:spPr>
            <a:xfrm>
              <a:off x="1006560" y="2819520"/>
              <a:ext cx="380880" cy="1447560"/>
            </a:xfrm>
            <a:prstGeom prst="can">
              <a:avLst>
                <a:gd name="adj" fmla="val 4824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597960" y="1932480"/>
              <a:ext cx="789480" cy="5230080"/>
              <a:chOff x="597960" y="1932480"/>
              <a:chExt cx="789480" cy="5230080"/>
            </a:xfrm>
          </p:grpSpPr>
          <p:sp>
            <p:nvSpPr>
              <p:cNvPr id="1080" name=""/>
              <p:cNvSpPr/>
              <p:nvPr/>
            </p:nvSpPr>
            <p:spPr>
              <a:xfrm>
                <a:off x="727200" y="193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597960" y="2857680"/>
                <a:ext cx="789480" cy="4304880"/>
                <a:chOff x="597960" y="2857680"/>
                <a:chExt cx="789480" cy="4304880"/>
              </a:xfrm>
            </p:grpSpPr>
            <p:grpSp>
              <p:nvGrpSpPr>
                <p:cNvPr id="1082" name=""/>
                <p:cNvGrpSpPr/>
                <p:nvPr/>
              </p:nvGrpSpPr>
              <p:grpSpPr>
                <a:xfrm>
                  <a:off x="1008720" y="4190040"/>
                  <a:ext cx="363600" cy="483840"/>
                  <a:chOff x="1008720" y="4190040"/>
                  <a:chExt cx="363600" cy="48384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rot="5376600">
                    <a:off x="1067760" y="4132800"/>
                    <a:ext cx="245160" cy="361440"/>
                  </a:xfrm>
                  <a:prstGeom prst="flowChartDelay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rot="16176600">
                    <a:off x="1067760" y="4369320"/>
                    <a:ext cx="245160" cy="361440"/>
                  </a:xfrm>
                  <a:prstGeom prst="flowChartDelay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5" name=""/>
                <p:cNvSpPr/>
                <p:nvPr/>
              </p:nvSpPr>
              <p:spPr>
                <a:xfrm rot="10800000">
                  <a:off x="1006560" y="4571640"/>
                  <a:ext cx="380880" cy="2590920"/>
                </a:xfrm>
                <a:prstGeom prst="can">
                  <a:avLst>
                    <a:gd name="adj" fmla="val 2078"/>
                  </a:avLst>
                </a:prstGeom>
                <a:gradFill rotWithShape="0">
                  <a:gsLst>
                    <a:gs pos="0">
                      <a:srgbClr val="fe2c02"/>
                    </a:gs>
                    <a:gs pos="50000">
                      <a:srgbClr val="ffffff"/>
                    </a:gs>
                    <a:gs pos="100000">
                      <a:srgbClr val="fe2c02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006560" y="2857680"/>
                  <a:ext cx="380880" cy="26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2fd9"/>
                    </a:gs>
                    <a:gs pos="50000">
                      <a:srgbClr val="ffffff"/>
                    </a:gs>
                    <a:gs pos="100000">
                      <a:srgbClr val="b02fd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006560" y="3352680"/>
                  <a:ext cx="380880" cy="165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006560" y="3581280"/>
                  <a:ext cx="380880" cy="15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006560" y="3924360"/>
                  <a:ext cx="380880" cy="101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006560" y="4089240"/>
                  <a:ext cx="380880" cy="101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006560" y="4622760"/>
                  <a:ext cx="380880" cy="254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006560" y="5257800"/>
                  <a:ext cx="380880" cy="152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006560" y="5562720"/>
                  <a:ext cx="380880" cy="241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006560" y="5791320"/>
                  <a:ext cx="380880" cy="152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006560" y="6095880"/>
                  <a:ext cx="380880" cy="216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006560" y="6756480"/>
                  <a:ext cx="380880" cy="253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006560" y="6413400"/>
                  <a:ext cx="380880" cy="216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98680" y="323028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97960" y="49874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0" name=""/>
          <p:cNvGrpSpPr/>
          <p:nvPr/>
        </p:nvGrpSpPr>
        <p:grpSpPr>
          <a:xfrm>
            <a:off x="1383840" y="3124080"/>
            <a:ext cx="1511640" cy="914400"/>
            <a:chOff x="1383840" y="3124080"/>
            <a:chExt cx="1511640" cy="914400"/>
          </a:xfrm>
        </p:grpSpPr>
        <p:sp>
          <p:nvSpPr>
            <p:cNvPr id="1101" name=""/>
            <p:cNvSpPr/>
            <p:nvPr/>
          </p:nvSpPr>
          <p:spPr>
            <a:xfrm flipV="1">
              <a:off x="2590920" y="3124080"/>
              <a:ext cx="30456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76520" y="3581280"/>
              <a:ext cx="9903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A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1383840" y="31240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3505320" y="1875240"/>
            <a:ext cx="2514600" cy="3001680"/>
            <a:chOff x="3505320" y="1875240"/>
            <a:chExt cx="2514600" cy="3001680"/>
          </a:xfrm>
        </p:grpSpPr>
        <p:grpSp>
          <p:nvGrpSpPr>
            <p:cNvPr id="1105" name=""/>
            <p:cNvGrpSpPr/>
            <p:nvPr/>
          </p:nvGrpSpPr>
          <p:grpSpPr>
            <a:xfrm>
              <a:off x="3505320" y="1875240"/>
              <a:ext cx="2514600" cy="3001680"/>
              <a:chOff x="3505320" y="1875240"/>
              <a:chExt cx="2514600" cy="3001680"/>
            </a:xfrm>
          </p:grpSpPr>
          <p:sp>
            <p:nvSpPr>
              <p:cNvPr id="1106" name=""/>
              <p:cNvSpPr/>
              <p:nvPr/>
            </p:nvSpPr>
            <p:spPr>
              <a:xfrm>
                <a:off x="5334120" y="3124080"/>
                <a:ext cx="685800" cy="990720"/>
              </a:xfrm>
              <a:custGeom>
                <a:avLst/>
                <a:gdLst>
                  <a:gd name="textAreaLeft" fmla="*/ 91800 w 685800"/>
                  <a:gd name="textAreaRight" fmla="*/ 594000 w 685800"/>
                  <a:gd name="textAreaTop" fmla="*/ 173160 h 990720"/>
                  <a:gd name="textAreaBottom" fmla="*/ 71820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4029640"/>
                    <a:lnTo>
                      <a:pt x="3150" y="21519"/>
                    </a:lnTo>
                    <a:lnTo>
                      <a:pt x="0" y="17280"/>
                    </a:lnTo>
                    <a:lnTo>
                      <a:pt x="3150" y="12879"/>
                    </a:lnTo>
                    <a:lnTo>
                      <a:pt x="3150" y="15039"/>
                    </a:lnTo>
                    <a:arcTo wR="21600" hR="7560" stAng="4029640" swAng="-3672205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blipFill rotWithShape="0">
                <a:blip r:embed="rId7">
                  <a:alphaModFix amt="50000"/>
                </a:blip>
                <a:srcRect/>
                <a:stretch/>
              </a:blip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124960" y="187524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505320" y="3429000"/>
                <a:ext cx="990360" cy="228600"/>
              </a:xfrm>
              <a:custGeom>
                <a:avLst/>
                <a:gdLst>
                  <a:gd name="textAreaLeft" fmla="*/ 154800 w 990360"/>
                  <a:gd name="textAreaRight" fmla="*/ 866880 w 99036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4800600" y="2831760"/>
                <a:ext cx="821160" cy="2045160"/>
                <a:chOff x="4800600" y="2831760"/>
                <a:chExt cx="821160" cy="20451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800600" y="2843280"/>
                  <a:ext cx="457200" cy="492120"/>
                </a:xfrm>
                <a:prstGeom prst="can">
                  <a:avLst>
                    <a:gd name="adj" fmla="val 1428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800600" y="2990880"/>
                  <a:ext cx="457200" cy="96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800000">
                  <a:off x="4800600" y="4187880"/>
                  <a:ext cx="457200" cy="689040"/>
                </a:xfrm>
                <a:prstGeom prst="can">
                  <a:avLst>
                    <a:gd name="adj" fmla="val 12199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800000">
                  <a:off x="4800600" y="3532320"/>
                  <a:ext cx="457200" cy="689040"/>
                </a:xfrm>
                <a:prstGeom prst="can">
                  <a:avLst>
                    <a:gd name="adj" fmla="val 296"/>
                  </a:avLst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ffffff"/>
                    </a:gs>
                    <a:gs pos="100000">
                      <a:srgbClr val="3333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800600" y="3567240"/>
                  <a:ext cx="457200" cy="144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800600" y="2895840"/>
                  <a:ext cx="457200" cy="47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2fd9"/>
                    </a:gs>
                    <a:gs pos="50000">
                      <a:srgbClr val="ffffff"/>
                    </a:gs>
                    <a:gs pos="100000">
                      <a:srgbClr val="b02fd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4807800" y="3318120"/>
                  <a:ext cx="435600" cy="199800"/>
                  <a:chOff x="4807800" y="3318120"/>
                  <a:chExt cx="435600" cy="19980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 rot="5376600">
                    <a:off x="4975200" y="3152160"/>
                    <a:ext cx="100080" cy="434520"/>
                  </a:xfrm>
                  <a:prstGeom prst="flowChartDelay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rot="16176600">
                    <a:off x="4975560" y="3249000"/>
                    <a:ext cx="100080" cy="434520"/>
                  </a:xfrm>
                  <a:prstGeom prst="flowChartDelay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5279400" y="391284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61040" y="283176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1" name=""/>
              <p:cNvSpPr/>
              <p:nvPr/>
            </p:nvSpPr>
            <p:spPr>
              <a:xfrm>
                <a:off x="3657600" y="2286000"/>
                <a:ext cx="99072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b02fd9"/>
                  </a:gs>
                  <a:gs pos="50000">
                    <a:srgbClr val="ffffff"/>
                  </a:gs>
                  <a:gs pos="100000">
                    <a:srgbClr val="b02fd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PA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4602600" y="2735640"/>
              <a:ext cx="141840" cy="52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248520" y="1887840"/>
            <a:ext cx="2895480" cy="2987280"/>
            <a:chOff x="6248520" y="1887840"/>
            <a:chExt cx="2895480" cy="2987280"/>
          </a:xfrm>
        </p:grpSpPr>
        <p:sp>
          <p:nvSpPr>
            <p:cNvPr id="1124" name=""/>
            <p:cNvSpPr/>
            <p:nvPr/>
          </p:nvSpPr>
          <p:spPr>
            <a:xfrm>
              <a:off x="7872120" y="39114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853760" y="28303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6248520" y="1887840"/>
              <a:ext cx="2895480" cy="2987280"/>
              <a:chOff x="6248520" y="1887840"/>
              <a:chExt cx="2895480" cy="2987280"/>
            </a:xfrm>
          </p:grpSpPr>
          <p:sp>
            <p:nvSpPr>
              <p:cNvPr id="1127" name=""/>
              <p:cNvSpPr/>
              <p:nvPr/>
            </p:nvSpPr>
            <p:spPr>
              <a:xfrm>
                <a:off x="7242840" y="1887840"/>
                <a:ext cx="435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6248520" y="2362320"/>
                <a:ext cx="2895480" cy="2512800"/>
                <a:chOff x="6248520" y="2362320"/>
                <a:chExt cx="2895480" cy="25128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6248520" y="3657600"/>
                  <a:ext cx="990360" cy="228600"/>
                </a:xfrm>
                <a:custGeom>
                  <a:avLst/>
                  <a:gdLst>
                    <a:gd name="textAreaLeft" fmla="*/ 154800 w 990360"/>
                    <a:gd name="textAreaRight" fmla="*/ 866880 w 990360"/>
                    <a:gd name="textAreaTop" fmla="*/ 57240 h 228600"/>
                    <a:gd name="textAreaBottom" fmla="*/ 1717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392960" y="2841480"/>
                  <a:ext cx="457200" cy="2033640"/>
                  <a:chOff x="7392960" y="2841480"/>
                  <a:chExt cx="457200" cy="203364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392960" y="2841480"/>
                    <a:ext cx="457200" cy="492120"/>
                  </a:xfrm>
                  <a:prstGeom prst="can">
                    <a:avLst>
                      <a:gd name="adj" fmla="val 14287"/>
                    </a:avLst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ffff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392960" y="3027240"/>
                    <a:ext cx="457200" cy="968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rot="10800000">
                    <a:off x="7392960" y="4186080"/>
                    <a:ext cx="457200" cy="689040"/>
                  </a:xfrm>
                  <a:prstGeom prst="can">
                    <a:avLst>
                      <a:gd name="adj" fmla="val 12199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0800000">
                    <a:off x="7392960" y="3504960"/>
                    <a:ext cx="457200" cy="714240"/>
                  </a:xfrm>
                  <a:prstGeom prst="can">
                    <a:avLst>
                      <a:gd name="adj" fmla="val 296"/>
                    </a:avLst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ffff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392960" y="3733560"/>
                    <a:ext cx="457200" cy="228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ad2cdc"/>
                      </a:gs>
                      <a:gs pos="50000">
                        <a:srgbClr val="ffffff"/>
                      </a:gs>
                      <a:gs pos="100000">
                        <a:srgbClr val="ad2cd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392960" y="2893680"/>
                    <a:ext cx="457200" cy="154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02fd9"/>
                      </a:gs>
                      <a:gs pos="50000">
                        <a:srgbClr val="ffffff"/>
                      </a:gs>
                      <a:gs pos="100000">
                        <a:srgbClr val="b02fd9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7400160" y="3316320"/>
                    <a:ext cx="435600" cy="199440"/>
                    <a:chOff x="7400160" y="3316320"/>
                    <a:chExt cx="435600" cy="19944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 rot="5376600">
                      <a:off x="7567560" y="3150360"/>
                      <a:ext cx="100080" cy="434520"/>
                    </a:xfrm>
                    <a:prstGeom prst="flowChartDelay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rot="16176600">
                      <a:off x="7567920" y="3246840"/>
                      <a:ext cx="100080" cy="434520"/>
                    </a:xfrm>
                    <a:prstGeom prst="flowChartDelay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40" name=""/>
                <p:cNvSpPr/>
                <p:nvPr/>
              </p:nvSpPr>
              <p:spPr>
                <a:xfrm>
                  <a:off x="7896240" y="3124080"/>
                  <a:ext cx="685800" cy="990720"/>
                </a:xfrm>
                <a:custGeom>
                  <a:avLst/>
                  <a:gdLst>
                    <a:gd name="textAreaLeft" fmla="*/ 91800 w 685800"/>
                    <a:gd name="textAreaRight" fmla="*/ 594000 w 685800"/>
                    <a:gd name="textAreaTop" fmla="*/ 173160 h 990720"/>
                    <a:gd name="textAreaBottom" fmla="*/ 718200 h 99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4029640"/>
                      <a:lnTo>
                        <a:pt x="3150" y="21519"/>
                      </a:lnTo>
                      <a:lnTo>
                        <a:pt x="0" y="17280"/>
                      </a:lnTo>
                      <a:lnTo>
                        <a:pt x="3150" y="12879"/>
                      </a:lnTo>
                      <a:lnTo>
                        <a:pt x="3150" y="15039"/>
                      </a:lnTo>
                      <a:arcTo wR="21600" hR="7560" stAng="4029640" swAng="-367220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blipFill rotWithShape="0">
                  <a:blip r:embed="rId14">
                    <a:alphaModFix amt="50000"/>
                  </a:blip>
                  <a:srcRect/>
                  <a:stretch/>
                </a:blip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153280" y="2362320"/>
                  <a:ext cx="990720" cy="45720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b02fd9"/>
                    </a:gs>
                    <a:gs pos="50000">
                      <a:srgbClr val="ffffff"/>
                    </a:gs>
                    <a:gs pos="100000">
                      <a:srgbClr val="b02fd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A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7807680" y="2719440"/>
                  <a:ext cx="462960" cy="27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6477120" y="2971800"/>
            <a:ext cx="838080" cy="304920"/>
          </a:xfrm>
          <a:prstGeom prst="rightArrowCallout">
            <a:avLst>
              <a:gd name="adj1" fmla="val 25002"/>
              <a:gd name="adj2" fmla="val 25000"/>
              <a:gd name="adj3" fmla="val 45809"/>
              <a:gd name="adj4" fmla="val 6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2057400" y="5257800"/>
            <a:ext cx="5853600" cy="1390680"/>
            <a:chOff x="2057400" y="5257800"/>
            <a:chExt cx="5853600" cy="1390680"/>
          </a:xfrm>
        </p:grpSpPr>
        <p:pic>
          <p:nvPicPr>
            <p:cNvPr id="1145" name="" descr=""/>
            <p:cNvPicPr/>
            <p:nvPr/>
          </p:nvPicPr>
          <p:blipFill>
            <a:blip r:embed="rId15"/>
            <a:stretch/>
          </p:blipFill>
          <p:spPr>
            <a:xfrm>
              <a:off x="2057400" y="5257800"/>
              <a:ext cx="11016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>
              <a:off x="3558960" y="5554080"/>
              <a:ext cx="4352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QUALI DATI IN FAVO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I QUESTA IPOTESI?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2438280" y="1395000"/>
            <a:ext cx="69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LI DATI IN FAVORE DI QUESTA IPOTESI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0880" y="219240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La regione in esame e’ localizzata in prossimta’ della PAR su Xp dis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52280" y="3368160"/>
            <a:ext cx="9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I due geni isolati da questa regione (STS e KAL) hanno entrambi un omologo su Yq11.2 e sfuggono all’inattivazione (originariamente pseudoautosom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80880" y="496836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L’ordine  e l’orientamento di parecchi loci su Xp22.3 e Yq11.2, incluso STS e KAL, e’ lo stesso rispetto ai telomeri su Xp e Yq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148760" y="6445440"/>
            <a:ext cx="65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Il g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rino e’ pseudoaut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5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40880" y="38088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rigine del cromosoma Y dell’uomo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58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-37800" y="13654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86000" y="141984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9% omologia con l’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952880" y="1572120"/>
            <a:ext cx="21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78% omologia con l’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14400" y="3106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repeat Alu e’ stato trovato solo nelle scimmie antropomorfe e non in quelle del vecchio m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0880" y="46184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NTE L’EVOLUZIONE DELLE G.A. E DELLE O.W.M., L’OMOLOGIA DEI CROMOSOMI SESSUALI E’ STATA MANTENUTA PER RICOMBINAZIONE NELLE SEQUENZE TELOMERICHE AL SITO DI INSERZIONE ALU. L’ELEMENTO ALU SI SAREBBE INSERITO IN UN BOUNDARY PRE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6868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boundary del cromosoma Y 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2438280"/>
            <a:ext cx="6858000" cy="152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35800" y="2383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6200000">
            <a:off x="730080" y="2457360"/>
            <a:ext cx="254160" cy="1141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001000" y="2438280"/>
            <a:ext cx="774720" cy="1396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7620120" y="2057400"/>
            <a:ext cx="3808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7772400" y="2057400"/>
            <a:ext cx="3808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763120" y="2362320"/>
            <a:ext cx="304560" cy="304560"/>
          </a:xfrm>
          <a:custGeom>
            <a:avLst/>
            <a:gdLst>
              <a:gd name="textAreaLeft" fmla="*/ 69480 w 304560"/>
              <a:gd name="textAreaRight" fmla="*/ 235080 w 30456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047520" y="22309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2298600"/>
            <a:ext cx="106668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057400" y="2298600"/>
            <a:ext cx="198108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u dist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752120" y="1981080"/>
            <a:ext cx="3812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1905120" y="1981080"/>
            <a:ext cx="38088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24360" y="2298600"/>
            <a:ext cx="102852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a800"/>
              </a:gs>
              <a:gs pos="50000">
                <a:srgbClr val="825600"/>
              </a:gs>
              <a:gs pos="100000">
                <a:srgbClr val="ffa800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88000" y="2298600"/>
            <a:ext cx="214632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u proxim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807240" y="2298600"/>
            <a:ext cx="888840" cy="381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228600" y="2173320"/>
            <a:ext cx="932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TUAZIONE MOLTO COMPLESSA....Almeno tre tipi di riarrangiamenti fisicamente e temporalmente distinti (inversione pericentrica di sequenze pseudoautosomiche e/o trasposizioni X-Y e duplicazioni) sono avvenuti durante l’evoluzione per spiegare l’attuale organizzazione di questa reg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000" spc="-1" strike="noStrike">
                <a:solidFill>
                  <a:srgbClr val="fe2c02"/>
                </a:solidFill>
                <a:latin typeface="Comic Sans MS"/>
              </a:rPr>
              <a:t>Quindi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9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0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9520" y="1658880"/>
            <a:ext cx="672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momorfismo ed eteromorf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ppaiamento per omologia di seque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2649600"/>
            <a:ext cx="92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romosoma X : submetacentrico, 165 Mb di DNA, numerosi geni impor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5840" y="3901680"/>
            <a:ext cx="91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romosoma Y: acrocentrico, 60 Mb di DNA, molta eterocromatina   costitutiva e pochi geni funzionali (alcuni X-Y linked altri Y specif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565956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I cromosomi sessu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409720"/>
            <a:ext cx="95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ssono appaiarsi in meiosi MASCHILE e subire crossing over (evento necessario) solo nelle regioni pseudoautosomiche (P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784600"/>
            <a:ext cx="335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ensi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2.6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a in Xp-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ene 12 geni ci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ssing-over obblig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undary cade nel gene del gruppo sanguigno (X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35328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osizione del boundary della PAR1 e’ molto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42840" y="1715040"/>
            <a:ext cx="4835160" cy="2094840"/>
            <a:chOff x="942840" y="1715040"/>
            <a:chExt cx="4835160" cy="2094840"/>
          </a:xfrm>
        </p:grpSpPr>
        <p:sp>
          <p:nvSpPr>
            <p:cNvPr id="77" name=""/>
            <p:cNvSpPr/>
            <p:nvPr/>
          </p:nvSpPr>
          <p:spPr>
            <a:xfrm>
              <a:off x="942840" y="17150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PAR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711680" y="1828800"/>
              <a:ext cx="1066320" cy="1981080"/>
              <a:chOff x="4711680" y="1828800"/>
              <a:chExt cx="1066320" cy="1981080"/>
            </a:xfrm>
          </p:grpSpPr>
          <p:sp>
            <p:nvSpPr>
              <p:cNvPr id="79" name=""/>
              <p:cNvSpPr/>
              <p:nvPr/>
            </p:nvSpPr>
            <p:spPr>
              <a:xfrm>
                <a:off x="4711680" y="1828800"/>
                <a:ext cx="152280" cy="75960"/>
              </a:xfrm>
              <a:custGeom>
                <a:avLst/>
                <a:gdLst>
                  <a:gd name="textAreaLeft" fmla="*/ 0 w 152280"/>
                  <a:gd name="textAreaRight" fmla="*/ 106920 w 152280"/>
                  <a:gd name="textAreaTop" fmla="*/ 2880 h 75960"/>
                  <a:gd name="textAreaBottom" fmla="*/ 730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92560" y="3733560"/>
                <a:ext cx="164520" cy="76320"/>
              </a:xfrm>
              <a:custGeom>
                <a:avLst/>
                <a:gdLst>
                  <a:gd name="textAreaLeft" fmla="*/ 48240 w 164520"/>
                  <a:gd name="textAreaRight" fmla="*/ 164880 w 164520"/>
                  <a:gd name="textAreaTop" fmla="*/ 2880 h 76320"/>
                  <a:gd name="textAreaBottom" fmla="*/ 734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1" name=""/>
              <p:cNvCxnSpPr>
                <a:stCxn id="79" idx="2"/>
                <a:endCxn id="80" idx="1"/>
              </p:cNvCxnSpPr>
              <p:nvPr/>
            </p:nvCxnSpPr>
            <p:spPr>
              <a:xfrm>
                <a:off x="4877640" y="1866600"/>
                <a:ext cx="200520" cy="190548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82" name=""/>
              <p:cNvSpPr/>
              <p:nvPr/>
            </p:nvSpPr>
            <p:spPr>
              <a:xfrm>
                <a:off x="4978080" y="1828800"/>
                <a:ext cx="799920" cy="457200"/>
              </a:xfrm>
              <a:prstGeom prst="flowChartPunchedTap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PAR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711680" y="1715040"/>
            <a:ext cx="4400280" cy="4304520"/>
            <a:chOff x="4711680" y="1715040"/>
            <a:chExt cx="4400280" cy="4304520"/>
          </a:xfrm>
        </p:grpSpPr>
        <p:sp>
          <p:nvSpPr>
            <p:cNvPr id="84" name=""/>
            <p:cNvSpPr/>
            <p:nvPr/>
          </p:nvSpPr>
          <p:spPr>
            <a:xfrm>
              <a:off x="7788240" y="17150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PAR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711680" y="5181480"/>
              <a:ext cx="1079640" cy="838080"/>
              <a:chOff x="4711680" y="5181480"/>
              <a:chExt cx="1079640" cy="838080"/>
            </a:xfrm>
          </p:grpSpPr>
          <p:sp>
            <p:nvSpPr>
              <p:cNvPr id="86" name=""/>
              <p:cNvSpPr/>
              <p:nvPr/>
            </p:nvSpPr>
            <p:spPr>
              <a:xfrm>
                <a:off x="4711680" y="5943600"/>
                <a:ext cx="152640" cy="75960"/>
              </a:xfrm>
              <a:custGeom>
                <a:avLst/>
                <a:gdLst>
                  <a:gd name="textAreaLeft" fmla="*/ 0 w 152640"/>
                  <a:gd name="textAreaRight" fmla="*/ 107280 w 152640"/>
                  <a:gd name="textAreaTop" fmla="*/ 2880 h 75960"/>
                  <a:gd name="textAreaBottom" fmla="*/ 730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18120" y="5181480"/>
                <a:ext cx="152640" cy="76320"/>
              </a:xfrm>
              <a:custGeom>
                <a:avLst/>
                <a:gdLst>
                  <a:gd name="textAreaLeft" fmla="*/ 44640 w 152640"/>
                  <a:gd name="textAreaRight" fmla="*/ 153000 w 152640"/>
                  <a:gd name="textAreaTop" fmla="*/ 2880 h 76320"/>
                  <a:gd name="textAreaBottom" fmla="*/ 734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" name=""/>
              <p:cNvCxnSpPr>
                <a:stCxn id="87" idx="1"/>
                <a:endCxn id="86" idx="2"/>
              </p:cNvCxnSpPr>
              <p:nvPr/>
            </p:nvCxnSpPr>
            <p:spPr>
              <a:xfrm flipV="1" rot="10800000">
                <a:off x="4877640" y="5218560"/>
                <a:ext cx="226440" cy="7628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89" name=""/>
              <p:cNvSpPr/>
              <p:nvPr/>
            </p:nvSpPr>
            <p:spPr>
              <a:xfrm>
                <a:off x="4991040" y="5473440"/>
                <a:ext cx="800280" cy="457200"/>
              </a:xfrm>
              <a:prstGeom prst="flowChartPunchedTap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PAR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58840" y="1752480"/>
            <a:ext cx="789480" cy="4343040"/>
            <a:chOff x="3858840" y="1752480"/>
            <a:chExt cx="789480" cy="4343040"/>
          </a:xfrm>
        </p:grpSpPr>
        <p:grpSp>
          <p:nvGrpSpPr>
            <p:cNvPr id="91" name=""/>
            <p:cNvGrpSpPr/>
            <p:nvPr/>
          </p:nvGrpSpPr>
          <p:grpSpPr>
            <a:xfrm>
              <a:off x="4266720" y="1752480"/>
              <a:ext cx="381600" cy="4343040"/>
              <a:chOff x="4266720" y="1752480"/>
              <a:chExt cx="381600" cy="43430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278960" y="3097440"/>
                <a:ext cx="363600" cy="484920"/>
                <a:chOff x="4278960" y="3097440"/>
                <a:chExt cx="363600" cy="484920"/>
              </a:xfrm>
            </p:grpSpPr>
            <p:sp>
              <p:nvSpPr>
                <p:cNvPr id="93" name=""/>
                <p:cNvSpPr/>
                <p:nvPr/>
              </p:nvSpPr>
              <p:spPr>
                <a:xfrm rot="5376600">
                  <a:off x="4338000" y="3040560"/>
                  <a:ext cx="245520" cy="361440"/>
                </a:xfrm>
                <a:prstGeom prst="flowChartDelay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16176600">
                  <a:off x="4337640" y="3277440"/>
                  <a:ext cx="245520" cy="361440"/>
                </a:xfrm>
                <a:prstGeom prst="flowChartDelay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67080" y="1752480"/>
                <a:ext cx="381240" cy="1447920"/>
              </a:xfrm>
              <a:prstGeom prst="can">
                <a:avLst>
                  <a:gd name="adj" fmla="val 482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0800000">
                <a:off x="4266720" y="3504600"/>
                <a:ext cx="381240" cy="2590920"/>
              </a:xfrm>
              <a:prstGeom prst="can">
                <a:avLst>
                  <a:gd name="adj" fmla="val 207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1904760"/>
                <a:ext cx="38124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2286000"/>
                <a:ext cx="381240" cy="16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2514600"/>
                <a:ext cx="38124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2857320"/>
                <a:ext cx="38124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3022560"/>
                <a:ext cx="38124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67080" y="3555720"/>
                <a:ext cx="381240" cy="254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190760"/>
                <a:ext cx="38124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67080" y="4495680"/>
                <a:ext cx="381240" cy="241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67080" y="4724280"/>
                <a:ext cx="38124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67080" y="5029200"/>
                <a:ext cx="381240" cy="21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67080" y="5689440"/>
                <a:ext cx="381240" cy="254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7080" y="5346720"/>
                <a:ext cx="381240" cy="21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859560" y="21632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58840" y="392076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321160" y="3615840"/>
            <a:ext cx="711720" cy="1628640"/>
            <a:chOff x="5321160" y="3615840"/>
            <a:chExt cx="711720" cy="1628640"/>
          </a:xfrm>
        </p:grpSpPr>
        <p:grpSp>
          <p:nvGrpSpPr>
            <p:cNvPr id="112" name=""/>
            <p:cNvGrpSpPr/>
            <p:nvPr/>
          </p:nvGrpSpPr>
          <p:grpSpPr>
            <a:xfrm>
              <a:off x="5321160" y="3670200"/>
              <a:ext cx="380880" cy="1574280"/>
              <a:chOff x="5321160" y="3670200"/>
              <a:chExt cx="380880" cy="1574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321160" y="3670200"/>
                <a:ext cx="380880" cy="380880"/>
              </a:xfrm>
              <a:prstGeom prst="can">
                <a:avLst>
                  <a:gd name="adj" fmla="val 1428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0800000">
                <a:off x="5321160" y="4711320"/>
                <a:ext cx="380880" cy="533160"/>
              </a:xfrm>
              <a:prstGeom prst="can">
                <a:avLst>
                  <a:gd name="adj" fmla="val 12199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21160" y="3784320"/>
                <a:ext cx="380880" cy="7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800000">
                <a:off x="5321160" y="4203360"/>
                <a:ext cx="380880" cy="533160"/>
              </a:xfrm>
              <a:prstGeom prst="can">
                <a:avLst>
                  <a:gd name="adj" fmla="val 29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21160" y="4230720"/>
                <a:ext cx="380880" cy="11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21160" y="4457520"/>
                <a:ext cx="380880" cy="106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326560" y="4037400"/>
                <a:ext cx="362160" cy="154080"/>
                <a:chOff x="5326560" y="4037400"/>
                <a:chExt cx="362160" cy="154080"/>
              </a:xfrm>
            </p:grpSpPr>
            <p:sp>
              <p:nvSpPr>
                <p:cNvPr id="120" name=""/>
                <p:cNvSpPr/>
                <p:nvPr/>
              </p:nvSpPr>
              <p:spPr>
                <a:xfrm rot="5376600">
                  <a:off x="5468400" y="3896640"/>
                  <a:ext cx="77400" cy="361080"/>
                </a:xfrm>
                <a:prstGeom prst="flowChartDelay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6176600">
                  <a:off x="5469120" y="3970800"/>
                  <a:ext cx="77400" cy="361080"/>
                </a:xfrm>
                <a:prstGeom prst="flowChartDelay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5690520" y="44539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75400" y="36158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64008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3"/>
                </a:solidFill>
                <a:latin typeface="Comic Sans MS"/>
              </a:rPr>
              <a:t>PseudoAutosomalReg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607480"/>
            <a:ext cx="3198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ensione 320 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a in Xq-Y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ene due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geni (IL9R, SYB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ssing-over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bblig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05160" y="4908960"/>
            <a:ext cx="2588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LO IN 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9R ha ortolo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rino autosom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2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329724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Il bou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3080" y="2770560"/>
            <a:ext cx="9752760" cy="1099800"/>
            <a:chOff x="73080" y="2770560"/>
            <a:chExt cx="9752760" cy="1099800"/>
          </a:xfrm>
        </p:grpSpPr>
        <p:sp>
          <p:nvSpPr>
            <p:cNvPr id="135" name=""/>
            <p:cNvSpPr/>
            <p:nvPr/>
          </p:nvSpPr>
          <p:spPr>
            <a:xfrm>
              <a:off x="1847880" y="277056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SFR2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0600" y="277056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NT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080" y="2900160"/>
              <a:ext cx="9752760" cy="970200"/>
              <a:chOff x="73080" y="2900160"/>
              <a:chExt cx="9752760" cy="970200"/>
            </a:xfrm>
          </p:grpSpPr>
          <p:sp>
            <p:nvSpPr>
              <p:cNvPr id="138" name=""/>
              <p:cNvSpPr/>
              <p:nvPr/>
            </p:nvSpPr>
            <p:spPr>
              <a:xfrm>
                <a:off x="73080" y="290016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64960" y="2936880"/>
                <a:ext cx="9560880" cy="933480"/>
                <a:chOff x="264960" y="2936880"/>
                <a:chExt cx="9560880" cy="9334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41280" y="3475080"/>
                  <a:ext cx="9067680" cy="15228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93560" y="3398760"/>
                  <a:ext cx="4860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85760" y="3398760"/>
                  <a:ext cx="5508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HO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87400" y="3398760"/>
                  <a:ext cx="4842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XE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2433600" y="3398760"/>
                  <a:ext cx="665280" cy="304920"/>
                  <a:chOff x="2433600" y="3398760"/>
                  <a:chExt cx="665280" cy="3049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243360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77524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116160" y="3398760"/>
                  <a:ext cx="665280" cy="304920"/>
                  <a:chOff x="3116160" y="3398760"/>
                  <a:chExt cx="665280" cy="3049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11616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457800" y="3398760"/>
                    <a:ext cx="32364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3846600" y="3398760"/>
                  <a:ext cx="5270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427640" y="3398760"/>
                  <a:ext cx="56196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38560" y="3398760"/>
                  <a:ext cx="4842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56440" y="3398760"/>
                  <a:ext cx="4856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5400000">
                  <a:off x="112320" y="3475080"/>
                  <a:ext cx="457200" cy="1526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7880" y="3350160"/>
                  <a:ext cx="594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PG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66440" y="2999160"/>
                  <a:ext cx="69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IL3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41440" y="2983320"/>
                  <a:ext cx="77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8" name=""/>
                <p:cNvCxnSpPr>
                  <a:endCxn id="145" idx="1"/>
                </p:cNvCxnSpPr>
                <p:nvPr/>
              </p:nvCxnSpPr>
              <p:spPr>
                <a:xfrm>
                  <a:off x="2155680" y="3012840"/>
                  <a:ext cx="402480" cy="4626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9" name=""/>
                <p:cNvCxnSpPr>
                  <a:stCxn id="156" idx="2"/>
                  <a:endCxn id="146" idx="0"/>
                </p:cNvCxnSpPr>
                <p:nvPr/>
              </p:nvCxnSpPr>
              <p:spPr>
                <a:xfrm>
                  <a:off x="2914560" y="3322440"/>
                  <a:ext cx="61200" cy="766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0" name=""/>
                <p:cNvCxnSpPr>
                  <a:endCxn id="148" idx="0"/>
                </p:cNvCxnSpPr>
                <p:nvPr/>
              </p:nvCxnSpPr>
              <p:spPr>
                <a:xfrm>
                  <a:off x="3282480" y="2984040"/>
                  <a:ext cx="34200" cy="41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1" name=""/>
                <p:cNvCxnSpPr>
                  <a:endCxn id="149" idx="1"/>
                </p:cNvCxnSpPr>
                <p:nvPr/>
              </p:nvCxnSpPr>
              <p:spPr>
                <a:xfrm flipH="1">
                  <a:off x="3580560" y="3166920"/>
                  <a:ext cx="111960" cy="3088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62" name=""/>
                <p:cNvSpPr/>
                <p:nvPr/>
              </p:nvSpPr>
              <p:spPr>
                <a:xfrm>
                  <a:off x="4322160" y="3151440"/>
                  <a:ext cx="761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ram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572080" y="3398760"/>
                  <a:ext cx="48420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914000" y="2957760"/>
                  <a:ext cx="752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endCxn id="152" idx="1"/>
                </p:cNvCxnSpPr>
                <p:nvPr/>
              </p:nvCxnSpPr>
              <p:spPr>
                <a:xfrm flipH="1">
                  <a:off x="5243040" y="3153960"/>
                  <a:ext cx="23040" cy="3214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66" name=""/>
                <p:cNvSpPr/>
                <p:nvPr/>
              </p:nvSpPr>
              <p:spPr>
                <a:xfrm>
                  <a:off x="5506200" y="3110400"/>
                  <a:ext cx="63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61480" y="2936880"/>
                  <a:ext cx="429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X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5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424080" y="3225960"/>
                  <a:ext cx="40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"/>
          <p:cNvSpPr/>
          <p:nvPr/>
        </p:nvSpPr>
        <p:spPr>
          <a:xfrm>
            <a:off x="236520" y="369216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e pseudoautosomic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8400" y="671040"/>
            <a:ext cx="29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e specifica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iascun cromos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ss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280" y="1540080"/>
            <a:ext cx="9773280" cy="1099800"/>
            <a:chOff x="44280" y="1540080"/>
            <a:chExt cx="9773280" cy="1099800"/>
          </a:xfrm>
        </p:grpSpPr>
        <p:sp>
          <p:nvSpPr>
            <p:cNvPr id="172" name=""/>
            <p:cNvSpPr/>
            <p:nvPr/>
          </p:nvSpPr>
          <p:spPr>
            <a:xfrm>
              <a:off x="6233040" y="1706760"/>
              <a:ext cx="42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4280" y="1540080"/>
              <a:ext cx="9773280" cy="1099800"/>
              <a:chOff x="44280" y="1540080"/>
              <a:chExt cx="9773280" cy="1099800"/>
            </a:xfrm>
          </p:grpSpPr>
          <p:sp>
            <p:nvSpPr>
              <p:cNvPr id="174" name=""/>
              <p:cNvSpPr/>
              <p:nvPr/>
            </p:nvSpPr>
            <p:spPr>
              <a:xfrm>
                <a:off x="44280" y="16696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236160" y="1540080"/>
                <a:ext cx="9581400" cy="1099800"/>
                <a:chOff x="236160" y="1540080"/>
                <a:chExt cx="9581400" cy="1099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12840" y="2244600"/>
                  <a:ext cx="9067680" cy="152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65120" y="2168640"/>
                  <a:ext cx="4856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057320" y="2168640"/>
                  <a:ext cx="5508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HO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58960" y="2168640"/>
                  <a:ext cx="4842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XE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2405160" y="2168640"/>
                  <a:ext cx="664560" cy="304560"/>
                  <a:chOff x="2405160" y="2168640"/>
                  <a:chExt cx="664560" cy="3045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2405160" y="2168640"/>
                    <a:ext cx="3232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746440" y="2168640"/>
                    <a:ext cx="3232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3087720" y="2168640"/>
                  <a:ext cx="665280" cy="304560"/>
                  <a:chOff x="3087720" y="2168640"/>
                  <a:chExt cx="665280" cy="3045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087720" y="2168640"/>
                    <a:ext cx="32364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29360" y="2168640"/>
                    <a:ext cx="32364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>
                  <a:off x="3817800" y="2168640"/>
                  <a:ext cx="5270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398840" y="2168640"/>
                  <a:ext cx="56196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010120" y="2168640"/>
                  <a:ext cx="4842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5400000">
                  <a:off x="83520" y="2244600"/>
                  <a:ext cx="457200" cy="1522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9440" y="2119680"/>
                  <a:ext cx="593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PG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819440" y="1540080"/>
                  <a:ext cx="83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CSFR2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538000" y="1768680"/>
                  <a:ext cx="69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IL3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972160" y="1540080"/>
                  <a:ext cx="65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NT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13000" y="1752840"/>
                  <a:ext cx="773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ASML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5" name=""/>
                <p:cNvCxnSpPr>
                  <a:endCxn id="181" idx="1"/>
                </p:cNvCxnSpPr>
                <p:nvPr/>
              </p:nvCxnSpPr>
              <p:spPr>
                <a:xfrm>
                  <a:off x="2127240" y="1782360"/>
                  <a:ext cx="402480" cy="46260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"/>
                <p:cNvCxnSpPr>
                  <a:stCxn id="192" idx="2"/>
                  <a:endCxn id="182" idx="0"/>
                </p:cNvCxnSpPr>
                <p:nvPr/>
              </p:nvCxnSpPr>
              <p:spPr>
                <a:xfrm>
                  <a:off x="2885760" y="2092320"/>
                  <a:ext cx="60840" cy="766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"/>
                <p:cNvCxnSpPr>
                  <a:endCxn id="184" idx="0"/>
                </p:cNvCxnSpPr>
                <p:nvPr/>
              </p:nvCxnSpPr>
              <p:spPr>
                <a:xfrm>
                  <a:off x="3254040" y="1753920"/>
                  <a:ext cx="34200" cy="41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"/>
                <p:cNvCxnSpPr>
                  <a:endCxn id="185" idx="1"/>
                </p:cNvCxnSpPr>
                <p:nvPr/>
              </p:nvCxnSpPr>
              <p:spPr>
                <a:xfrm flipH="1">
                  <a:off x="3552120" y="1936440"/>
                  <a:ext cx="111960" cy="3085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99" name=""/>
                <p:cNvSpPr/>
                <p:nvPr/>
              </p:nvSpPr>
              <p:spPr>
                <a:xfrm>
                  <a:off x="4293720" y="1921320"/>
                  <a:ext cx="761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ram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43640" y="2168640"/>
                  <a:ext cx="48420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85560" y="1727640"/>
                  <a:ext cx="752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02" name=""/>
                <p:cNvCxnSpPr>
                  <a:endCxn id="188" idx="1"/>
                </p:cNvCxnSpPr>
                <p:nvPr/>
              </p:nvCxnSpPr>
              <p:spPr>
                <a:xfrm flipH="1">
                  <a:off x="5214600" y="1924200"/>
                  <a:ext cx="23040" cy="3211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03" name=""/>
                <p:cNvSpPr/>
                <p:nvPr/>
              </p:nvSpPr>
              <p:spPr>
                <a:xfrm>
                  <a:off x="5477400" y="1879920"/>
                  <a:ext cx="63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MIC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400680" y="200988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6227640" y="2168640"/>
                <a:ext cx="486000" cy="304560"/>
              </a:xfrm>
              <a:prstGeom prst="cube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6248520" y="1706760"/>
            <a:ext cx="2880000" cy="884160"/>
            <a:chOff x="6248520" y="1706760"/>
            <a:chExt cx="2880000" cy="884160"/>
          </a:xfrm>
        </p:grpSpPr>
        <p:sp>
          <p:nvSpPr>
            <p:cNvPr id="207" name=""/>
            <p:cNvSpPr/>
            <p:nvPr/>
          </p:nvSpPr>
          <p:spPr>
            <a:xfrm>
              <a:off x="6608880" y="2168640"/>
              <a:ext cx="63792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23280" y="2168640"/>
              <a:ext cx="40932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56440" y="2168640"/>
              <a:ext cx="40968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89960" y="2168640"/>
              <a:ext cx="409680" cy="304560"/>
            </a:xfrm>
            <a:prstGeom prst="cube">
              <a:avLst>
                <a:gd name="adj" fmla="val 25000"/>
              </a:avLst>
            </a:prstGeom>
            <a:solidFill>
              <a:srgbClr val="ff00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8400" y="1706760"/>
              <a:ext cx="42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02960" y="193860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R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3240" y="18799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R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11840" y="187992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RS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48520" y="25909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880960" y="1600200"/>
            <a:ext cx="1352520" cy="2765160"/>
            <a:chOff x="5880960" y="1600200"/>
            <a:chExt cx="1352520" cy="2765160"/>
          </a:xfrm>
        </p:grpSpPr>
        <p:sp>
          <p:nvSpPr>
            <p:cNvPr id="217" name=""/>
            <p:cNvSpPr/>
            <p:nvPr/>
          </p:nvSpPr>
          <p:spPr>
            <a:xfrm>
              <a:off x="5880960" y="3905640"/>
              <a:ext cx="13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nf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1600200"/>
              <a:ext cx="0" cy="2438280"/>
            </a:xfrm>
            <a:prstGeom prst="line">
              <a:avLst/>
            </a:prstGeom>
            <a:ln cap="rnd" w="442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43455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l boundary della par1 umana e’ nel gene del gruppo sanguigno X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05800" y="3061440"/>
            <a:ext cx="1455480" cy="748440"/>
            <a:chOff x="6805800" y="3061440"/>
            <a:chExt cx="1455480" cy="748440"/>
          </a:xfrm>
        </p:grpSpPr>
        <p:grpSp>
          <p:nvGrpSpPr>
            <p:cNvPr id="221" name=""/>
            <p:cNvGrpSpPr/>
            <p:nvPr/>
          </p:nvGrpSpPr>
          <p:grpSpPr>
            <a:xfrm>
              <a:off x="6805800" y="3061440"/>
              <a:ext cx="1455480" cy="748440"/>
              <a:chOff x="6805800" y="3061440"/>
              <a:chExt cx="1455480" cy="748440"/>
            </a:xfrm>
          </p:grpSpPr>
          <p:sp>
            <p:nvSpPr>
              <p:cNvPr id="222" name=""/>
              <p:cNvSpPr/>
              <p:nvPr/>
            </p:nvSpPr>
            <p:spPr>
              <a:xfrm>
                <a:off x="6889680" y="3398760"/>
                <a:ext cx="385920" cy="304920"/>
              </a:xfrm>
              <a:prstGeom prst="cube">
                <a:avLst>
                  <a:gd name="adj" fmla="val 25000"/>
                </a:avLst>
              </a:prstGeom>
              <a:solidFill>
                <a:srgbClr val="ff00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51720" y="3398760"/>
                <a:ext cx="709560" cy="304920"/>
              </a:xfrm>
              <a:prstGeom prst="cube">
                <a:avLst>
                  <a:gd name="adj" fmla="val 25000"/>
                </a:avLst>
              </a:prstGeom>
              <a:solidFill>
                <a:srgbClr val="ff00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PS4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05800" y="3061440"/>
                <a:ext cx="60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S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619760" y="3809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934320" y="38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04920" y="5956200"/>
            <a:ext cx="94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gene che controlla l’inizio del differenziamento sessuale (SRY) si trova sul cromosoma Y a sole 5 Kb dal con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028960" y="151776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248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ltre le PAR ci sono altre regioni di omologia tra X e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760" y="5777280"/>
            <a:ext cx="9448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6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 cromosomi sessuali sono evoluti da una coppia di cromosomi omomorfici a cui sarebbe seguita una storia indipendente (inversioni e trasposizioni duplicativ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2680" y="500112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ti dei geni condivisi tra X ed Y sfuggono all’inattiv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come fossero autosomic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3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1240" y="659880"/>
            <a:ext cx="5050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e regioni di omologia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84280" y="2743200"/>
            <a:ext cx="9016920" cy="1523880"/>
            <a:chOff x="584280" y="2743200"/>
            <a:chExt cx="9016920" cy="1523880"/>
          </a:xfrm>
        </p:grpSpPr>
        <p:sp>
          <p:nvSpPr>
            <p:cNvPr id="240" name=""/>
            <p:cNvSpPr/>
            <p:nvPr/>
          </p:nvSpPr>
          <p:spPr>
            <a:xfrm>
              <a:off x="584280" y="3276720"/>
              <a:ext cx="60948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540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4452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608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398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47840" y="3276720"/>
              <a:ext cx="266760" cy="457200"/>
            </a:xfrm>
            <a:custGeom>
              <a:avLst/>
              <a:gdLst>
                <a:gd name="textAreaLeft" fmla="*/ 60840 w 266760"/>
                <a:gd name="textAreaRight" fmla="*/ 205920 w 266760"/>
                <a:gd name="textAreaTop" fmla="*/ 104400 h 457200"/>
                <a:gd name="textAreaBottom" fmla="*/ 352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060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624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1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831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243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655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941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84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32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547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ffffff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33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3276720"/>
              <a:ext cx="30456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31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817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103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389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801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0876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520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824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960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246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532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18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113b2"/>
                </a:gs>
                <a:gs pos="50000">
                  <a:srgbClr val="ffffff"/>
                </a:gs>
                <a:gs pos="100000">
                  <a:srgbClr val="0113b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41480" y="2743200"/>
              <a:ext cx="0" cy="15238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10480" y="3276720"/>
              <a:ext cx="304920" cy="5331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055080" y="3276720"/>
              <a:ext cx="304920" cy="5331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96280" y="3276720"/>
              <a:ext cx="304920" cy="533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b02fd9"/>
                </a:gs>
                <a:gs pos="50000">
                  <a:srgbClr val="ffffff"/>
                </a:gs>
                <a:gs pos="100000">
                  <a:srgbClr val="b02f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762760" y="3124080"/>
              <a:ext cx="22860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915040" y="3048120"/>
              <a:ext cx="22860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52280" y="2244240"/>
            <a:ext cx="838440" cy="398880"/>
          </a:xfrm>
          <a:prstGeom prst="rect">
            <a:avLst/>
          </a:prstGeom>
          <a:gradFill rotWithShape="0">
            <a:gsLst>
              <a:gs pos="0">
                <a:srgbClr val="b02fd9"/>
              </a:gs>
              <a:gs pos="50000">
                <a:srgbClr val="ffffff"/>
              </a:gs>
              <a:gs pos="100000">
                <a:srgbClr val="b02f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986680" y="2309400"/>
            <a:ext cx="838440" cy="398880"/>
          </a:xfrm>
          <a:prstGeom prst="rect">
            <a:avLst/>
          </a:prstGeom>
          <a:gradFill rotWithShape="0">
            <a:gsLst>
              <a:gs pos="0">
                <a:srgbClr val="b02fd9"/>
              </a:gs>
              <a:gs pos="50000">
                <a:srgbClr val="ffffff"/>
              </a:gs>
              <a:gs pos="100000">
                <a:srgbClr val="b02f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75280" y="3827880"/>
            <a:ext cx="8097120" cy="1025280"/>
            <a:chOff x="575280" y="3827880"/>
            <a:chExt cx="8097120" cy="1025280"/>
          </a:xfrm>
        </p:grpSpPr>
        <p:sp>
          <p:nvSpPr>
            <p:cNvPr id="283" name=""/>
            <p:cNvSpPr/>
            <p:nvPr/>
          </p:nvSpPr>
          <p:spPr>
            <a:xfrm>
              <a:off x="1079280" y="3843720"/>
              <a:ext cx="506880" cy="30708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280" y="4454280"/>
              <a:ext cx="7901280" cy="39888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eni e familie geniche con espressione specifica nel testico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47000" y="3831120"/>
              <a:ext cx="787320" cy="3704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Y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S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2040" y="3827880"/>
              <a:ext cx="1070640" cy="3704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Y1 TSP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Y TT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27360" y="3831120"/>
              <a:ext cx="1075320" cy="37044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PY1  C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XK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29640" y="3853080"/>
              <a:ext cx="1742760" cy="508680"/>
            </a:xfrm>
            <a:prstGeom prst="rect">
              <a:avLst/>
            </a:prstGeom>
            <a:gradFill rotWithShape="0">
              <a:gsLst>
                <a:gs pos="0">
                  <a:srgbClr val="000080"/>
                </a:gs>
                <a:gs pos="50000">
                  <a:srgbClr val="ffff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BM     RBM    P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Y  DAZ C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Y2   BP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8110440" y="2829600"/>
            <a:ext cx="15782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terocromat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2819520"/>
            <a:ext cx="1600200" cy="1066680"/>
          </a:xfrm>
          <a:prstGeom prst="flowChartMerg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88080" y="2233080"/>
            <a:ext cx="6006240" cy="977760"/>
            <a:chOff x="1288080" y="2233080"/>
            <a:chExt cx="6006240" cy="977760"/>
          </a:xfrm>
        </p:grpSpPr>
        <p:sp>
          <p:nvSpPr>
            <p:cNvPr id="292" name=""/>
            <p:cNvSpPr/>
            <p:nvPr/>
          </p:nvSpPr>
          <p:spPr>
            <a:xfrm>
              <a:off x="2570400" y="2233080"/>
              <a:ext cx="4723920" cy="39888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eni con omologhi sul cromosom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88080" y="2840400"/>
              <a:ext cx="630360" cy="37044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PS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ZF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7000" y="2908800"/>
              <a:ext cx="784080" cy="23220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M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85720" y="2837160"/>
              <a:ext cx="1256760" cy="37044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FFRY U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BY    TB4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9560" y="2840400"/>
              <a:ext cx="877320" cy="37044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5000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M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IF1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e regioni di omologia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992680" y="3152520"/>
            <a:ext cx="570240" cy="587160"/>
            <a:chOff x="2992680" y="3152520"/>
            <a:chExt cx="570240" cy="587160"/>
          </a:xfrm>
        </p:grpSpPr>
        <p:sp>
          <p:nvSpPr>
            <p:cNvPr id="305" name=""/>
            <p:cNvSpPr/>
            <p:nvPr/>
          </p:nvSpPr>
          <p:spPr>
            <a:xfrm rot="5376600">
              <a:off x="3128760" y="3018960"/>
              <a:ext cx="297000" cy="56772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176600">
              <a:off x="3129480" y="3305160"/>
              <a:ext cx="297000" cy="567720"/>
            </a:xfrm>
            <a:prstGeom prst="flowChartDelay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3240" y="1523880"/>
            <a:ext cx="598680" cy="1752840"/>
          </a:xfrm>
          <a:prstGeom prst="can">
            <a:avLst>
              <a:gd name="adj" fmla="val 4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2972880" y="3644640"/>
            <a:ext cx="598680" cy="3136680"/>
          </a:xfrm>
          <a:prstGeom prst="can">
            <a:avLst>
              <a:gd name="adj" fmla="val 2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3240" y="1708200"/>
            <a:ext cx="598680" cy="18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3240" y="2170080"/>
            <a:ext cx="598680" cy="200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3240" y="2446200"/>
            <a:ext cx="598680" cy="184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3240" y="2862360"/>
            <a:ext cx="59868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3240" y="3060720"/>
            <a:ext cx="598680" cy="1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3240" y="3706920"/>
            <a:ext cx="598680" cy="30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3240" y="4475160"/>
            <a:ext cx="598680" cy="18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3240" y="4844880"/>
            <a:ext cx="598680" cy="29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3240" y="5121360"/>
            <a:ext cx="598680" cy="18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3240" y="5491080"/>
            <a:ext cx="59868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3240" y="6289560"/>
            <a:ext cx="598680" cy="308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3240" y="5875200"/>
            <a:ext cx="598680" cy="26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6560" y="2061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17280" y="41907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16680" y="3597120"/>
            <a:ext cx="600120" cy="462240"/>
          </a:xfrm>
          <a:prstGeom prst="can">
            <a:avLst>
              <a:gd name="adj" fmla="val 1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6916320" y="4857480"/>
            <a:ext cx="600120" cy="646200"/>
          </a:xfrm>
          <a:prstGeom prst="can">
            <a:avLst>
              <a:gd name="adj" fmla="val 1219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16680" y="3735360"/>
            <a:ext cx="60012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6916320" y="4242960"/>
            <a:ext cx="600120" cy="646200"/>
          </a:xfrm>
          <a:prstGeom prst="can">
            <a:avLst>
              <a:gd name="adj" fmla="val 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16680" y="4275000"/>
            <a:ext cx="600120" cy="136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16680" y="4551480"/>
            <a:ext cx="60012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926040" y="4041720"/>
            <a:ext cx="570240" cy="187560"/>
            <a:chOff x="6926040" y="4041720"/>
            <a:chExt cx="570240" cy="187560"/>
          </a:xfrm>
        </p:grpSpPr>
        <p:sp>
          <p:nvSpPr>
            <p:cNvPr id="330" name=""/>
            <p:cNvSpPr/>
            <p:nvPr/>
          </p:nvSpPr>
          <p:spPr>
            <a:xfrm rot="5376600">
              <a:off x="7164000" y="3805560"/>
              <a:ext cx="93600" cy="569520"/>
            </a:xfrm>
            <a:prstGeom prst="flowChartDelay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176600">
              <a:off x="7164360" y="3895560"/>
              <a:ext cx="93600" cy="569520"/>
            </a:xfrm>
            <a:prstGeom prst="flowChartDelay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482960" y="4588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56680" y="3573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/>
          <p:nvPr/>
        </p:nvCxnSpPr>
        <p:spPr>
          <a:xfrm flipV="1">
            <a:off x="3610080" y="5485680"/>
            <a:ext cx="3363120" cy="1173960"/>
          </a:xfrm>
          <a:prstGeom prst="bentConnector3">
            <a:avLst>
              <a:gd name="adj1" fmla="val 49994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5246640" y="59274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/>
          <p:nvPr/>
        </p:nvCxnSpPr>
        <p:spPr>
          <a:xfrm>
            <a:off x="3628800" y="1595160"/>
            <a:ext cx="3267720" cy="20754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332320" y="2076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376320" y="3629520"/>
            <a:ext cx="631800" cy="752040"/>
            <a:chOff x="6376320" y="3629520"/>
            <a:chExt cx="631800" cy="752040"/>
          </a:xfrm>
        </p:grpSpPr>
        <p:sp>
          <p:nvSpPr>
            <p:cNvPr id="339" name=""/>
            <p:cNvSpPr/>
            <p:nvPr/>
          </p:nvSpPr>
          <p:spPr>
            <a:xfrm>
              <a:off x="6400800" y="3898800"/>
              <a:ext cx="457200" cy="763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6320" y="3629520"/>
              <a:ext cx="63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KX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13400" y="4305240"/>
              <a:ext cx="457200" cy="76320"/>
            </a:xfrm>
            <a:prstGeom prst="rect">
              <a:avLst/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8840" y="1279080"/>
            <a:ext cx="2276640" cy="778320"/>
            <a:chOff x="618840" y="1279080"/>
            <a:chExt cx="2276640" cy="778320"/>
          </a:xfrm>
        </p:grpSpPr>
        <p:sp>
          <p:nvSpPr>
            <p:cNvPr id="343" name=""/>
            <p:cNvSpPr/>
            <p:nvPr/>
          </p:nvSpPr>
          <p:spPr>
            <a:xfrm>
              <a:off x="1600200" y="1523880"/>
              <a:ext cx="1295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18840" y="1279080"/>
              <a:ext cx="849600" cy="778320"/>
              <a:chOff x="618840" y="1279080"/>
              <a:chExt cx="849600" cy="778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8840" y="1279080"/>
                <a:ext cx="84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Xp22.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840" y="1540080"/>
                <a:ext cx="63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KX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2120" y="1828800"/>
                <a:ext cx="457200" cy="76320"/>
              </a:xfrm>
              <a:prstGeom prst="rect">
                <a:avLst/>
              </a:prstGeom>
              <a:solidFill>
                <a:srgbClr val="fe2c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62120" y="1981080"/>
                <a:ext cx="457200" cy="763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609480" y="2024640"/>
            <a:ext cx="2277720" cy="935280"/>
            <a:chOff x="609480" y="2024640"/>
            <a:chExt cx="2277720" cy="935280"/>
          </a:xfrm>
        </p:grpSpPr>
        <p:cxnSp>
          <p:nvCxnSpPr>
            <p:cNvPr id="350" name=""/>
            <p:cNvCxnSpPr/>
            <p:nvPr/>
          </p:nvCxnSpPr>
          <p:spPr>
            <a:xfrm rot="5400000">
              <a:off x="1852560" y="1555560"/>
              <a:ext cx="553320" cy="1516680"/>
            </a:xfrm>
            <a:prstGeom prst="bentConnector4">
              <a:avLst>
                <a:gd name="adj1" fmla="val -2278"/>
                <a:gd name="adj2" fmla="val 55270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09480" y="2397600"/>
              <a:ext cx="72036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Xp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ZF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MG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158800" y="3656160"/>
            <a:ext cx="3413520" cy="858240"/>
            <a:chOff x="5158800" y="3656160"/>
            <a:chExt cx="3413520" cy="858240"/>
          </a:xfrm>
        </p:grpSpPr>
        <p:cxnSp>
          <p:nvCxnSpPr>
            <p:cNvPr id="353" name=""/>
            <p:cNvCxnSpPr/>
            <p:nvPr/>
          </p:nvCxnSpPr>
          <p:spPr>
            <a:xfrm flipV="1" rot="10800000">
              <a:off x="5790600" y="4038120"/>
              <a:ext cx="1143720" cy="326160"/>
            </a:xfrm>
            <a:prstGeom prst="bentConnector3">
              <a:avLst>
                <a:gd name="adj1" fmla="val 6290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54" name=""/>
            <p:cNvGrpSpPr/>
            <p:nvPr/>
          </p:nvGrpSpPr>
          <p:grpSpPr>
            <a:xfrm>
              <a:off x="5158800" y="3656160"/>
              <a:ext cx="3413520" cy="858240"/>
              <a:chOff x="5158800" y="3656160"/>
              <a:chExt cx="3413520" cy="8582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7543800" y="3656160"/>
                <a:ext cx="1028520" cy="307080"/>
                <a:chOff x="7543800" y="3656160"/>
                <a:chExt cx="1028520" cy="3070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543800" y="380988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79120" y="3656160"/>
                  <a:ext cx="493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ZF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5158800" y="4207320"/>
                <a:ext cx="71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MG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1501200" y="3817440"/>
            <a:ext cx="1470240" cy="500400"/>
            <a:chOff x="1501200" y="3817440"/>
            <a:chExt cx="1470240" cy="500400"/>
          </a:xfrm>
        </p:grpSpPr>
        <p:sp>
          <p:nvSpPr>
            <p:cNvPr id="360" name=""/>
            <p:cNvSpPr/>
            <p:nvPr/>
          </p:nvSpPr>
          <p:spPr>
            <a:xfrm flipH="1">
              <a:off x="2285640" y="4114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01200" y="3817440"/>
              <a:ext cx="7279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Xq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PS4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4241880"/>
              <a:ext cx="457200" cy="759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400800" y="3867480"/>
            <a:ext cx="2389680" cy="307080"/>
            <a:chOff x="6400800" y="3867480"/>
            <a:chExt cx="2389680" cy="307080"/>
          </a:xfrm>
        </p:grpSpPr>
        <p:sp>
          <p:nvSpPr>
            <p:cNvPr id="364" name=""/>
            <p:cNvSpPr/>
            <p:nvPr/>
          </p:nvSpPr>
          <p:spPr>
            <a:xfrm>
              <a:off x="6400800" y="4038480"/>
              <a:ext cx="457200" cy="76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543800" y="3867480"/>
              <a:ext cx="1246680" cy="307080"/>
              <a:chOff x="7543800" y="3867480"/>
              <a:chExt cx="1246680" cy="307080"/>
            </a:xfrm>
          </p:grpSpPr>
          <p:sp>
            <p:nvSpPr>
              <p:cNvPr id="366" name=""/>
              <p:cNvSpPr/>
              <p:nvPr/>
            </p:nvSpPr>
            <p:spPr>
              <a:xfrm>
                <a:off x="7543800" y="40212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70120" y="3867480"/>
                <a:ext cx="72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PS4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1527840" y="4664160"/>
            <a:ext cx="1443600" cy="517320"/>
            <a:chOff x="1527840" y="4664160"/>
            <a:chExt cx="1443600" cy="517320"/>
          </a:xfrm>
        </p:grpSpPr>
        <p:sp>
          <p:nvSpPr>
            <p:cNvPr id="369" name=""/>
            <p:cNvSpPr/>
            <p:nvPr/>
          </p:nvSpPr>
          <p:spPr>
            <a:xfrm>
              <a:off x="1527840" y="4664160"/>
              <a:ext cx="6760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Xq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285640" y="48006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00200" y="4952880"/>
              <a:ext cx="45720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00200" y="5105520"/>
              <a:ext cx="457200" cy="75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334120" y="4114800"/>
            <a:ext cx="3276360" cy="457200"/>
            <a:chOff x="5334120" y="4114800"/>
            <a:chExt cx="3276360" cy="457200"/>
          </a:xfrm>
        </p:grpSpPr>
        <p:sp>
          <p:nvSpPr>
            <p:cNvPr id="374" name=""/>
            <p:cNvSpPr/>
            <p:nvPr/>
          </p:nvSpPr>
          <p:spPr>
            <a:xfrm>
              <a:off x="8153280" y="4114800"/>
              <a:ext cx="457200" cy="76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4120" y="4495680"/>
              <a:ext cx="457200" cy="76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657600" y="6477120"/>
            <a:ext cx="457200" cy="75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4572000"/>
            <a:ext cx="457200" cy="763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2808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geni dell’X umano che non inattivano sono ampiamente distribuiti lungo tutto il cromosoma, ma esistono  notevoli differenze rispetto agli schemi di inattivazione mur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52280" y="2438280"/>
            <a:ext cx="6782040" cy="3807000"/>
            <a:chOff x="152280" y="2438280"/>
            <a:chExt cx="6782040" cy="380700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152280" y="2438280"/>
              <a:ext cx="6782040" cy="38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627640" y="4444920"/>
              <a:ext cx="1939680" cy="46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6475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IST e’ responsabile dell’inizio dell’inattivazione ed e’ espresso solo nell’Xinattivo e non in quello attiv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0280" y="3477960"/>
            <a:ext cx="2743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.B. ZFX, RPS4X e UBE1 sfuggono tutti all’inattivazione, mentre gli omologhi murini Zfx, Rps4 e Ube1 (omologo sull’Y in topo) subiscono tutti l’inatti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Il cromosoma X in uomo e t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1fd2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180432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TA CONSERVAZIONE DELLA SINTENIA TRA CROMOSOMA X DI TOPO E 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41605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processo di INATTIVAZIONE DELLA X  (TRASLOCAZIONI X-AUTOSOMA SELEZIONATE A SFAV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557496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rdine dei geni NON e’ lo stesso...sembra che ci siano state una serie numerosa di inversioni cromosomiche nella storia evolutiva dei cromosomi X ancest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9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2958840"/>
            <a:ext cx="383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A LA GARANTIS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potesi di Ohno 19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Sintenia si, ordin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4T09:07:20Z</cp:lastPrinted>
  <dcterms:modified xsi:type="dcterms:W3CDTF">2004-04-25T21:41:00Z</dcterms:modified>
  <cp:revision>1071</cp:revision>
  <dc:subject/>
  <dc:title>Geen diatitel</dc:title>
</cp:coreProperties>
</file>